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2.gif" ContentType="image/gif"/>
  <Override PartName="/ppt/media/image24.wmf" ContentType="image/x-wmf"/>
  <Override PartName="/ppt/media/image23.wmf" ContentType="image/x-wmf"/>
  <Override PartName="/ppt/media/whoosh.wav" ContentType="audio/x-wav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33.jpeg" ContentType="image/jpeg"/>
  <Override PartName="/ppt/media/image17.jpeg" ContentType="image/jpeg"/>
  <Override PartName="/ppt/media/image11.wmf" ContentType="image/x-wmf"/>
  <Override PartName="/ppt/media/image13.png" ContentType="image/png"/>
  <Override PartName="/ppt/media/image34.jpeg" ContentType="image/jpeg"/>
  <Override PartName="/ppt/media/image37.png" ContentType="image/png"/>
  <Override PartName="/ppt/media/image9.png" ContentType="image/png"/>
  <Override PartName="/ppt/media/image7.jpeg" ContentType="image/jpeg"/>
  <Override PartName="/ppt/media/image31.wmf" ContentType="image/x-wmf"/>
  <Override PartName="/ppt/media/image6.png" ContentType="image/png"/>
  <Override PartName="/ppt/media/image36.jpeg" ContentType="image/jpeg"/>
  <Override PartName="/ppt/media/image2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22.wmf" ContentType="image/x-wmf"/>
  <Override PartName="/ppt/media/image2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3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ftr" idx="3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 type="sldNum" idx="3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D96E-5C65-41DF-811A-2D80F026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B82-5815-49A7-A466-B05BE1EA78A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913D-16A5-4AA3-9604-302DE51ED8A9}" type="slidenum"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й свет – это эффективный способ уничтожения микроб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й свет способствует выработке гормона мелатонина, от количества которого в организме человека зависит скорость его стар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2F6-F4D7-48C8-A2C8-4C1A15DC7A2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одержит в себе огромнейшее количество энергии. На Землю попадают лишь около одной половины миллиардной доли этой энергии. Но именно благодаря ей на Земле происходит круговорот воды, дуют ветры, развивалась и развивается жи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3578-00B6-487A-AEB2-7C10E38770D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доктор Норман Розенталь, врач из ЮАР , в 1080-х годах переехал в Нью-Йорк для продолжения своего медицинского образования, он заметил, что зимой теряет бодрость. Привыкший к солнечному  Йоханесбургу, Розенталь подозревал, что настроение и энергичность снижаются оттого, что в Нью-Йорке зимой недостаточно солнца. Примерно в тоже время Розенталь с коллегами занимались исследованиями в Национальном институте психического здоровья. В 1984гю они заметили, что год за годом в определенное время у людей появляются симптомы депрессии. Розенталь назвал этот феномен – сезонным аффективным расстройством. Это растройство связано  со световыми циклами и влияет на психические и физиологические процес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е излучение стимулирует выработку эндорфинов, "гормонов удовольствия", поэтому считается, что солнечный свет - лучший природный антидепрессант. Его позитивное влияние распространяется и на сферу межличностных отношений: в то время как холод побуждает нас "закрыться", солнце, напротив, "раскрывает" нас по отношению к внешнему миру, к окружающим. Именно по этой причине летом нам легче вступать в новые контакты, заводить новых друз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FCD9-ED87-4E44-A4E6-B54CCE8A72A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-таки солнышко нам нужно чтобы, лежа на пляже, получить от солнечных ванн максимальный антистрессовый эффект, а под действием ультрафиолета наша кожа вырабатывает витамин D, который препятствует вымыванию кальция из костей и зубов, защищает сердце и сосуды и предотвращает появление некоторых раковых заболеваний. Благодаря витамину D в коже происходит равномерное распределение меланина, и она получает ровный оттенок заг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C2F-32C3-4BC7-BF44-2EE7FB8D582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3F1B-20CB-4936-BDC1-88FD88BBA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C02B-E071-4D2A-9F18-B5C9363F0E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09A31-F589-4685-A5C1-AC71018BBD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8EAA9A-6C81-4B09-96CD-D34FD1F1EF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C8B77E-310B-4A47-9DC2-37F858EEC4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28002-EEDE-467E-B38D-73C22A399A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9EEDA0-2919-48D8-92B5-0D62213FECC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DF7CF-72F9-431D-A3A3-C8924326FA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E74B58-24BA-4B0B-B446-D46A814C7BA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4CBDB-D4E8-42C9-801A-3AE076E746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DFC98E-AC35-43C2-A6A0-3A85C18455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163AF-B6B1-4A07-8EBF-F450BBBC4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0471-2682-4738-923A-BA8D531F13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99B82-DB6A-4898-9DEB-BB288B633F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47333-9F52-488B-B980-EA16753F46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B7AA-33A3-4995-8556-4A55AEDB9E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9EDE7-5D24-4ADD-9B37-F74C405150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2D1BD-13E1-498A-8722-4D7FB7E2A4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5863-C18E-4B9E-8FE7-EFBA29AAEE0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8BA27-C87A-4955-9605-7C44B114F4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090DD-C8F1-4C57-86DE-808B795CD7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1337-FA38-4EB7-9150-BA6C84CC148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FF06-55DD-4C85-AC66-2BB1D69E1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4EB2-A130-4BF7-8874-3D765154A06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EE242-8A34-49AA-8505-C64C2DE908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F6ED8E-BA46-4926-975E-0C244191B4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64B03-8423-4912-9AC1-188D9C9DFC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93541-E38E-469E-9322-70C86691C2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9D6B83-4A38-4FDB-A8CC-BC030535C3A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97C3A-2DDC-4A83-9885-61C57F781B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E0245-ADD1-41BC-82B1-F6A1FAFD21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305CAA-F613-4F47-A51F-677455CE74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B9D17-FC56-47EC-AE3F-E05D54E76F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DE73D-1DCB-4550-822B-425028DB0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236FE-8EAB-475D-82C5-DCBC9410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E42CA9-880C-419D-BD94-CB1F0B511E5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D76A9-6B87-4A8F-8C09-808348BCA25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C5527-85EC-4B10-97EB-88A97E69BF6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D5B68-5C7A-41F9-AC65-E687DE8E368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9B47E-AF1C-4B11-B3F1-B97E8D32EC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13634-3508-4098-9DC5-1FB51AD5305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C35C2-7DE5-4B9A-8999-76BE1E880AD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5989D-002E-407E-A4F0-04AEDC109DC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A0A1C-8725-420E-AD4D-372D440F616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48E0B-060C-4417-AA68-989B4B3CA2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1FC31-D5CD-4C87-9165-5E6007C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F6CD5-7AF4-46B6-B65A-3C23730D72C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351E4-8B2C-4EDE-87AC-406248F93F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4AB7C-D2F2-4DBB-85BC-3D99A1A1A19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A65B3-ECAE-4BE8-B692-A6880CD7CF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92306-2187-45E4-B799-0BA694F5B2E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B22B2-E26B-4B30-8A84-C83E83B95DC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7B341-6E4D-40F5-8DB2-17ED3A84A03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B64AA-1A42-4DD7-BCAD-BE3A15CCF2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E2BB2-0078-4CD5-B64A-914D04A5E6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BD367-7930-4680-BAE5-D57808C79F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EE7A-6287-4B41-8023-F2653EBF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82607-80CB-4554-8712-E4792464F5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09298-1133-4B03-9938-A55300FF76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3AB76-DAEC-4261-8A23-A18C5456FF1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87FFE-D7F2-4693-934E-DF2B8A726B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9949E-5448-43B2-8247-509446433E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D18AF-A621-458B-B9AD-CD7D406B0AA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3B401-C092-4A6C-A2CC-6C749F0A2EA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B41FCF-9D3B-45C7-88EF-334AA7E9E09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33275E-B3AD-4611-BEE2-D88514EE13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625A14-CD9D-42EF-855F-FFF1E1F08C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274DB-8ABB-46E8-A31B-95B3B484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751E60-65FA-4578-91D4-89C8FA075F6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00D596-6E6E-4A46-8306-4984D225749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DC3B0C-545D-47BC-8761-F233D1697C7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43D128-4429-4051-9032-A01C78105FE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B007F9-7D6C-40CB-B0C2-805065D0081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8D94C-2449-4C21-83E4-3A8266F7703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E55E38-FA01-4DFE-93D1-68594E369D6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F184A8-A86B-4D39-B689-0F70974B4E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B3C7A4-C546-49DD-AC50-51EF8ECCFAD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6A9005-05DB-4D47-B5D2-7985204D6C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B4CE6-6423-4060-9596-CD14585C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CDBEFE-24DE-405C-8028-AA51996517E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6F7BCE-03EB-480C-B04E-4EFE4C0C4C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80BC1D-1866-4CC1-B052-EBB10A23B49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08163D-C51C-44A6-983D-C937B841A2E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CF9DA0-E239-4C15-B1C3-ACEE794A0FA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E1FF7B-A0E1-4163-8120-FBA2733B237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55D246-B9F0-40FE-AB00-26136452158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ED8434-E5D3-493E-A4E6-DA9F9B16490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AD7F9C-F5EE-4C7A-A61E-B65E8F8327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5E66FB-F208-4935-9E86-D0B128C822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3C917-CC14-4D5D-8FBC-B466CF88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224478-F4BE-4127-8035-44B06AA0B0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DAA0-963E-44F4-84D8-AB2E6FC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6A6F-67AB-40C1-B072-110A1C28B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C8987-F21F-4B4F-B36A-4004981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B0432-56D7-4B95-98EB-C86AACD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2AEE3-AC8C-41E0-BAB9-B5D14102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E00C-E0A6-4F5A-BD10-831FCD5F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10A34-9BE9-4FD1-A9B1-34C22E6F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C0C0A-6EFA-43A6-A857-7073151A9C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81870-3997-4DE5-8C60-E03C9F4F40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9D110-0DA6-45C8-A96B-1B8B764966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94AA1-DDDA-4984-B1A4-52128E608C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F2AED-7B9E-4EC0-B0C7-3403F21B59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02E6-6226-4368-A85A-B530F5D9BC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F73E1-07F5-4299-8746-30F8DFA6E3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B3E02-44D8-4DF6-A8C1-8B89D7A76C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69AD0-A136-4ABB-BBB6-591DBE2040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9A899-5A72-4936-9BAC-DAC3208BCC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2BD97-6B5E-49E4-A7B0-F9FB32A0AA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57A4F6-F346-4BA1-A10C-50D388D352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51D7F-B690-47BE-93E4-AB47427C37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EA6A-5220-48F5-83F6-154728FB61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9709-E37A-4208-B701-84EA7A40E2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8DD9-DEBE-49AD-9460-93216DC97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ED1C-781E-4439-BE75-8E8323ECEA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909D-39F0-4181-AADE-2D26DA32BF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E3B3-92CA-4989-BDAF-1B4D384EFE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3AEF-FFC8-4312-8985-C22DA655D3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AD47-CF62-44C7-B9B0-50D65B931C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C21F-18DE-413A-A9EE-BF53EA57EB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310C-75C5-407C-82C8-93A46634E4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526B-17B2-46E9-8BDD-26F3D2B33D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B305-7BA5-49FB-B36A-89883AEA30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5285-CA52-40FF-9F84-B7EAA6C3541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8956D-A055-44BD-B482-B4D9F2074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879F-6E3E-4F4F-9BEC-A0EC0B65C10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F7786-E1E3-4729-892D-4DCA907D04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881ED-7C81-4617-991E-545A9A6331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67DCD-EA04-420A-83CB-FFA12A047F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5C808-4D63-4F3B-B756-79252133F7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D1008-D472-4C6D-B09C-30E0981C98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0E094-C806-4FD1-8F09-8A380E2B7F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AEB3E-E07E-4D4E-AF7A-84117DE845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EB3E4-C2E8-461F-AF77-702272E7C3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4EAEC-799E-4819-893D-AA2CA4E11C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FCEAB-BCD8-4072-A87B-EAB127BE7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E76D-1266-42F7-B2AD-844BDEF519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58750-278B-4078-9D85-8DF45E0AA7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87A0B-59A6-4B71-806D-C0FB801F2E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A7BECB-5C31-48A1-BEA8-F39C3973FF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01B38F-0BEC-45E9-AC60-0F992B5450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B1F064-6F5A-46C4-9093-8C9D7D5F95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338C9-DA13-4E23-A1D9-0624EC234C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980E3-4B99-4A3E-9610-38ACCDE27E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F0BAC9-0B16-41C8-9773-7CD7D0BFF8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A0675B-6962-4308-AEAF-287131958F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F2B54-475B-4FA0-834E-5B2B561BE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6954-F648-42F2-B675-24110543C5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8235D-74FD-4F4D-A123-295E08920D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832CE-2151-451A-8313-D505652ABF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53A9E-8B0D-47B2-B65B-FF6016963B5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9A8FA-2D4B-4261-8FE6-A16ABD1BF4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C628-E890-4AE7-A2B4-1707C1EEA8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F148-850D-4E73-83F1-2AE1D3D7FF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AF31-5555-4F39-95E7-69729DC28B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F354F-024E-4200-A655-E31AEDB76D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0778-10B9-4390-BB0D-8AD411AA5E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FA89B-A901-463A-B5A7-6E248CD31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6F55-3518-4C89-9643-872F35527EA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C429-C969-4A88-B56E-A5506B5878E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0FCF-CB13-47EF-93AA-D4B5FC0395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AB2C6-0DBC-46E1-82DD-860035178E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527D2-CA18-432F-9653-8FB6A713C3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EAAD6-B6C1-4A9F-BF3A-393127BF58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D9139-908F-4AAB-9798-59E5A87B86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E5316-053A-4E8F-8189-3C5ECC0565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FDA81-5F6E-4874-84D1-6C420F9BBC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912B6-E828-421F-9D56-0A934E7AE7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E2241-14D2-4AF9-B0B0-A7A3427A4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CB3F-D975-414F-AE7A-D7AA6C31AE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93A23-4C28-42E5-87B3-D616DE71E9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0556E-B56F-4F2B-AEA5-957BFBA2AF4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405A1-840A-4382-AF29-319199A854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2D9AA-8996-4E72-A68A-4D95A89067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4571E-9802-4707-8F8E-E0CC6507B1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4C57E-6896-42E9-AB0C-133EDB3B685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785F5-EDC5-469F-8C5B-D1D815295DA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CB393-25FE-405F-A44E-6069FD8C2C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3A6AA-BED1-49DB-9EDA-A9877866CD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0DE422-826A-49F2-A14A-938275AB7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A682-D368-4E16-8A58-91A4648D063B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0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5127-2F89-459C-A658-BEC5FE95B9C8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2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A2DE-FC6D-4F4C-BFAF-4C701E98E1A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4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2D7E-C291-4774-839B-426F29F9E8CB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6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A5BE-5C4C-44A3-BC96-AE87A1B878F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28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2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B13-3907-4379-9BEA-73CAA55986FC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30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3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B613-533B-4F0A-B096-DBA72E72463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43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5468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4E4A-3862-47E7-85D4-A6D90222D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6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2D91-D18C-4819-A7AB-D2F99BEFE80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C167-1866-4FFB-AF96-6CFAF467D9E3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0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494E-0F25-4B16-B649-D0DB26D79D3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2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7589-8659-4924-A912-C93069DC129D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E1B9-C9B5-45CF-A7A4-21577C513EB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6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CE5-98A5-400D-9B40-B0C47A20AFD9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9" descr="Рисунок3"/>
          <p:cNvPicPr/>
          <p:nvPr/>
        </p:nvPicPr>
        <p:blipFill>
          <a:blip r:embed="rId2"/>
          <a:stretch/>
        </p:blipFill>
        <p:spPr>
          <a:xfrm>
            <a:off x="6053040" y="5867280"/>
            <a:ext cx="2938680" cy="1155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8"/>
          </p:nvPr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5E29-A38E-443B-A103-C6E57667FA3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oibus.jfm.net/photos/grand_canyon/canyon-scape-h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hyperlink" Target="http://moibus.jfm.net/photos/grand_canyon/canyon-plant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moibus.jfm.net/photos/grand_canyon/canyon-critter.jp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moibus.jfm.net/photos/grand_canyon/canyon-sky-sun1.jpg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.png"/><Relationship Id="rId11" Type="http://schemas.openxmlformats.org/officeDocument/2006/relationships/image" Target="../media/image18.jpeg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57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014-BEF6-4751-ADC3-C8F02E0A1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4267080" y="627696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627" name="Picture 49" descr="background with 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37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2E88-AD12-486E-9C6D-A3E8193F948B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nkGothic Md BT"/>
              </a:rPr>
              <a:t>1. </a:t>
            </a:r>
            <a:r>
              <a:rPr b="1" lang="ru-RU" sz="3200" spc="-1" strike="noStrike">
                <a:solidFill>
                  <a:srgbClr val="ff0000"/>
                </a:solidFill>
                <a:latin typeface="BankGothic Md BT"/>
              </a:rPr>
              <a:t>Солнечный свет поддерживает пригодную для жизни температуру окружающей среды на планете 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9" name="Rectangle 6"/>
          <p:cNvSpPr/>
          <p:nvPr/>
        </p:nvSpPr>
        <p:spPr>
          <a:xfrm>
            <a:off x="0" y="3317760"/>
            <a:ext cx="5181480" cy="316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Таким образом он обеспечивает жизнь 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растений и животных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на Земле и является жизненно важной составляющей окружающей среды</a:t>
            </a:r>
            <a:endParaRPr b="0" lang="en-US" sz="32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940" name="Picture 13" descr="pand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18200" y="533520"/>
            <a:ext cx="3697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42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BB0-34F8-4352-B7B2-5E424010FE3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ankGothic Md BT"/>
              </a:rPr>
              <a:t>2. </a:t>
            </a:r>
            <a:r>
              <a:rPr b="1" lang="ru-RU" sz="3600" spc="-1" strike="noStrike">
                <a:solidFill>
                  <a:srgbClr val="ff0000"/>
                </a:solidFill>
                <a:latin typeface="BankGothic Md BT"/>
              </a:rPr>
              <a:t>Растениям нужен солнечный свет для фотосинтез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0" y="2133720"/>
            <a:ext cx="5334120" cy="277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преобразуют углекислый газ и воду в органические вещества, витамины, белки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углеводы, жиры и клетчатку</a:t>
            </a:r>
            <a:endParaRPr b="0" lang="en-US" sz="32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945" name="Picture 7" descr="fig34"/>
          <p:cNvPicPr/>
          <p:nvPr/>
        </p:nvPicPr>
        <p:blipFill>
          <a:blip r:embed="rId1"/>
          <a:stretch/>
        </p:blipFill>
        <p:spPr>
          <a:xfrm>
            <a:off x="5410080" y="1828800"/>
            <a:ext cx="33163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47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6503-E51A-478A-BCC3-0A603F292F03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ankGothic Md BT"/>
              </a:rPr>
              <a:t>3. </a:t>
            </a:r>
            <a:r>
              <a:rPr b="1" lang="ru-RU" sz="3600" spc="-1" strike="noStrike">
                <a:solidFill>
                  <a:srgbClr val="ff0000"/>
                </a:solidFill>
                <a:latin typeface="BankGothic Md BT"/>
              </a:rPr>
              <a:t>Солнечный свет создаёт витамин</a:t>
            </a:r>
            <a:r>
              <a:rPr b="1" lang="en-US" sz="3600" spc="-1" strike="noStrike">
                <a:solidFill>
                  <a:srgbClr val="ff0000"/>
                </a:solidFill>
                <a:latin typeface="BankGothic Md BT"/>
              </a:rPr>
              <a:t> D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76320" y="2057400"/>
            <a:ext cx="4952880" cy="404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Солнечный свет способствует образованию и восстановлению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костной ткани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 уровень витамина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D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в организм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950" name="Picture 11" descr="Ск_1-2копирование"/>
          <p:cNvPicPr/>
          <p:nvPr/>
        </p:nvPicPr>
        <p:blipFill>
          <a:blip r:embed="rId1"/>
          <a:stretch/>
        </p:blipFill>
        <p:spPr>
          <a:xfrm>
            <a:off x="5943600" y="838080"/>
            <a:ext cx="2333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Нижний колонтитул 2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52" name="Номер слайда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8B6A-4818-4574-899A-E1EFAD3B407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Пребывание н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солнц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54" name="Group 1027"/>
          <p:cNvGrpSpPr/>
          <p:nvPr/>
        </p:nvGrpSpPr>
        <p:grpSpPr>
          <a:xfrm>
            <a:off x="6705720" y="-152280"/>
            <a:ext cx="2514600" cy="2438280"/>
            <a:chOff x="6705720" y="-152280"/>
            <a:chExt cx="2514600" cy="2438280"/>
          </a:xfrm>
        </p:grpSpPr>
        <p:pic>
          <p:nvPicPr>
            <p:cNvPr id="955" name="Picture 1028" descr="Bor217"/>
            <p:cNvPicPr/>
            <p:nvPr/>
          </p:nvPicPr>
          <p:blipFill>
            <a:blip r:embed="rId1"/>
            <a:stretch/>
          </p:blipFill>
          <p:spPr>
            <a:xfrm>
              <a:off x="6705720" y="-152280"/>
              <a:ext cx="25146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Oval 1029"/>
            <p:cNvSpPr/>
            <p:nvPr/>
          </p:nvSpPr>
          <p:spPr>
            <a:xfrm>
              <a:off x="7297560" y="421200"/>
              <a:ext cx="1330920" cy="129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957" name="Picture 1031" descr="SO00963_"/>
          <p:cNvPicPr/>
          <p:nvPr/>
        </p:nvPicPr>
        <p:blipFill>
          <a:blip r:embed="rId2"/>
          <a:stretch/>
        </p:blipFill>
        <p:spPr>
          <a:xfrm>
            <a:off x="0" y="530280"/>
            <a:ext cx="4648320" cy="6327720"/>
          </a:xfrm>
          <a:prstGeom prst="rect">
            <a:avLst/>
          </a:prstGeom>
          <a:ln w="0">
            <a:noFill/>
          </a:ln>
        </p:spPr>
      </p:pic>
      <p:sp>
        <p:nvSpPr>
          <p:cNvPr id="958" name="Rectangle 1033"/>
          <p:cNvSpPr/>
          <p:nvPr/>
        </p:nvSpPr>
        <p:spPr>
          <a:xfrm>
            <a:off x="3962520" y="1828800"/>
            <a:ext cx="44956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юдям, живущим ближе к экватору, требуется всего на 5 минут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в  день подставлять солнцу лицо и руки  для  получения  достаточной дозы витамин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D.</a:t>
            </a:r>
            <a:endParaRPr b="0" lang="en-US" sz="32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Белому человеку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0" name="Object 3" descr=""/>
          <p:cNvPicPr/>
          <p:nvPr/>
        </p:nvPicPr>
        <p:blipFill>
          <a:blip r:embed="rId1"/>
          <a:stretch/>
        </p:blipFill>
        <p:spPr>
          <a:xfrm>
            <a:off x="6629400" y="76320"/>
            <a:ext cx="2355840" cy="2355840"/>
          </a:xfrm>
          <a:prstGeom prst="rect">
            <a:avLst/>
          </a:prstGeom>
          <a:ln w="0">
            <a:noFill/>
          </a:ln>
        </p:spPr>
      </p:pic>
      <p:sp>
        <p:nvSpPr>
          <p:cNvPr id="961" name="Rectangle 11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62" name="Rectangle 1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E8C-F6E8-4E37-A613-711A257AA5F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963" name="Picture 13" descr="j0183058"/>
          <p:cNvPicPr/>
          <p:nvPr/>
        </p:nvPicPr>
        <p:blipFill>
          <a:blip r:embed="rId2"/>
          <a:stretch/>
        </p:blipFill>
        <p:spPr>
          <a:xfrm>
            <a:off x="0" y="2895480"/>
            <a:ext cx="4648320" cy="3951360"/>
          </a:xfrm>
          <a:prstGeom prst="rect">
            <a:avLst/>
          </a:prstGeom>
          <a:ln w="0">
            <a:noFill/>
          </a:ln>
        </p:spPr>
      </p:pic>
      <p:sp>
        <p:nvSpPr>
          <p:cNvPr id="964" name="Rectangle 46"/>
          <p:cNvSpPr/>
          <p:nvPr/>
        </p:nvSpPr>
        <p:spPr>
          <a:xfrm>
            <a:off x="-4251240" y="384192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65" name="Rectangle 70"/>
          <p:cNvSpPr/>
          <p:nvPr/>
        </p:nvSpPr>
        <p:spPr>
          <a:xfrm>
            <a:off x="0" y="838080"/>
            <a:ext cx="44704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остаточно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5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в день находиться на солнц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 получения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400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диниц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витамин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D.</a:t>
            </a:r>
            <a:endParaRPr b="0" lang="en-US" sz="3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66" name="Rectangle 71"/>
          <p:cNvSpPr/>
          <p:nvPr/>
        </p:nvSpPr>
        <p:spPr>
          <a:xfrm>
            <a:off x="4724280" y="3809880"/>
            <a:ext cx="4191120" cy="228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требуется в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6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раз дольше находиться на солнце, чтобы получить ту же дозу  витамина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D.</a:t>
            </a:r>
            <a:endParaRPr b="0" lang="en-US" sz="3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67" name="Rectangle 72"/>
          <p:cNvSpPr/>
          <p:nvPr/>
        </p:nvSpPr>
        <p:spPr>
          <a:xfrm>
            <a:off x="5334120" y="2819520"/>
            <a:ext cx="3276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мнокожему человеку  </a:t>
            </a: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69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BD16-973F-4986-A043-667F3027900F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ЛНЕЧНЫЙ СВЕТ УБИВАЕТ МНОГИЕ ВИРУС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ИКРОБЫ, В ТОМ ЧИСЛЕ ПАТОГЕННЫЕ ГРИБЫ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0" y="2666520"/>
            <a:ext cx="4572000" cy="312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одну половину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шки Петри, в которой  размножаются бактерии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поставить под прямые  солнечные лучи 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2" name="Object 33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72000" cy="41148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2" descr="Su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3"/>
          <p:cNvSpPr/>
          <p:nvPr/>
        </p:nvSpPr>
        <p:spPr>
          <a:xfrm>
            <a:off x="5940360" y="5157720"/>
            <a:ext cx="3311640" cy="1434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Bernard MT Condensed"/>
              </a:rPr>
              <a:t>Убивает бактерии</a:t>
            </a:r>
            <a:endParaRPr b="0" lang="en-US" sz="44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Нижний колонтитул 4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76" name="Номер слайда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6AF4-5CB1-40F4-A81F-F386BE8D3079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977" name="Picture 103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52480" y="228600"/>
            <a:ext cx="5562720" cy="416088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0" y="434304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чень полезно отрывать шторы и окна и впускать солнечный свет в комнаты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бы убивать бактерии,  скрывающиеся в пыли до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Стекло задерживает большинство ультрафиолетовых лучей и снимает риск солнечных ожогов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9" name="Group 1033"/>
          <p:cNvGrpSpPr/>
          <p:nvPr/>
        </p:nvGrpSpPr>
        <p:grpSpPr>
          <a:xfrm>
            <a:off x="5486400" y="6400800"/>
            <a:ext cx="3352320" cy="457200"/>
            <a:chOff x="5486400" y="6400800"/>
            <a:chExt cx="3352320" cy="457200"/>
          </a:xfrm>
        </p:grpSpPr>
        <p:sp>
          <p:nvSpPr>
            <p:cNvPr id="980" name="Rectangle 1034"/>
            <p:cNvSpPr/>
            <p:nvPr/>
          </p:nvSpPr>
          <p:spPr>
            <a:xfrm>
              <a:off x="54864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981" name="Rectangle 1035"/>
            <p:cNvSpPr/>
            <p:nvPr/>
          </p:nvSpPr>
          <p:spPr>
            <a:xfrm>
              <a:off x="693396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468025-0281-4116-A5DC-9B3A19C20794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Нижний колонтитул 4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83" name="Номер слайда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D321-F0D5-4B5C-B43C-DF44E52FD8A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84" name="Rectangle 1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grpSp>
        <p:nvGrpSpPr>
          <p:cNvPr id="985" name="Group 7"/>
          <p:cNvGrpSpPr/>
          <p:nvPr/>
        </p:nvGrpSpPr>
        <p:grpSpPr>
          <a:xfrm>
            <a:off x="0" y="0"/>
            <a:ext cx="9144000" cy="5257800"/>
            <a:chOff x="0" y="0"/>
            <a:chExt cx="9144000" cy="5257800"/>
          </a:xfrm>
        </p:grpSpPr>
        <p:pic>
          <p:nvPicPr>
            <p:cNvPr id="986" name="Picture 8" descr="j0158185"/>
            <p:cNvPicPr/>
            <p:nvPr/>
          </p:nvPicPr>
          <p:blipFill>
            <a:blip r:embed="rId1"/>
            <a:stretch/>
          </p:blipFill>
          <p:spPr>
            <a:xfrm>
              <a:off x="0" y="3140640"/>
              <a:ext cx="9144000" cy="21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9" descr="j0099548"/>
            <p:cNvPicPr/>
            <p:nvPr/>
          </p:nvPicPr>
          <p:blipFill>
            <a:blip r:embed="rId2"/>
            <a:stretch/>
          </p:blipFill>
          <p:spPr>
            <a:xfrm>
              <a:off x="685800" y="1627920"/>
              <a:ext cx="3429000" cy="2342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88" name="Object 10"/>
            <p:cNvGraphicFramePr/>
            <p:nvPr/>
          </p:nvGraphicFramePr>
          <p:xfrm>
            <a:off x="6775560" y="0"/>
            <a:ext cx="2355840" cy="187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9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75560" y="0"/>
                      <a:ext cx="2355840" cy="18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90" name="Picture 11" descr="NA02275_"/>
            <p:cNvPicPr/>
            <p:nvPr/>
          </p:nvPicPr>
          <p:blipFill>
            <a:blip r:embed="rId5"/>
            <a:stretch/>
          </p:blipFill>
          <p:spPr>
            <a:xfrm>
              <a:off x="304920" y="802800"/>
              <a:ext cx="251460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Picture 12" descr="NA02275_"/>
            <p:cNvPicPr/>
            <p:nvPr/>
          </p:nvPicPr>
          <p:blipFill>
            <a:blip r:embed="rId6"/>
            <a:stretch/>
          </p:blipFill>
          <p:spPr>
            <a:xfrm>
              <a:off x="2362320" y="781200"/>
              <a:ext cx="2514600" cy="13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nkGothic Md BT"/>
              </a:rPr>
              <a:t>6. </a:t>
            </a:r>
            <a:r>
              <a:rPr b="1" lang="ru-RU" sz="2800" spc="-1" strike="noStrike">
                <a:solidFill>
                  <a:srgbClr val="ff0000"/>
                </a:solidFill>
                <a:latin typeface="BankGothic Md BT"/>
              </a:rPr>
              <a:t>СОЛНЕЧНЫЙ СВЕТ СТИМУЛИРУЕТ</a:t>
            </a:r>
            <a:r>
              <a:rPr b="1" lang="en-US" sz="2800" spc="-1" strike="noStrike">
                <a:solidFill>
                  <a:srgbClr val="ff0000"/>
                </a:solidFill>
                <a:latin typeface="BankGothic Md BT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BankGothic Md BT"/>
              </a:rPr>
              <a:t>КРУГОВОРОТ И ПЕРЕРАБОТКУ ВОДЫ                 В  ПРИРОДЕ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0" y="39625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ecff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о время испарения чистая дистиллированная вода поднимается в воздух, где конденсируется в  облаках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При выпадении осадков  дождь промывает воздух                и растворяет азот. Азот в  уже растворённом виде  попадает в почву, а очищенная вода пополняет реки, озёра и протоки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995" name="Rectangle 15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996" name="Rectangle 16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A55BCA8-40AA-41F8-BF32-2E0A45B30BBA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997" name="Picture 18" descr="Рисунок3"/>
          <p:cNvPicPr/>
          <p:nvPr/>
        </p:nvPicPr>
        <p:blipFill>
          <a:blip r:embed="rId7"/>
          <a:stretch/>
        </p:blipFill>
        <p:spPr>
          <a:xfrm>
            <a:off x="6019920" y="5778360"/>
            <a:ext cx="293832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99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DC23-8A13-4217-B3E0-BDD6CCBEA857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1000" name="Picture 7" descr="anidep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42670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nkGothic Md BT"/>
              </a:rPr>
              <a:t>7. </a:t>
            </a:r>
            <a:r>
              <a:rPr b="1" lang="ru-RU" sz="3200" spc="-1" strike="noStrike">
                <a:solidFill>
                  <a:srgbClr val="ff0000"/>
                </a:solidFill>
                <a:latin typeface="BankGothic Md BT"/>
              </a:rPr>
              <a:t>СОЛНЕЧНЫЙ СВЕТ</a:t>
            </a:r>
            <a:r>
              <a:rPr b="1" lang="en-US" sz="3200" spc="-1" strike="noStrike">
                <a:solidFill>
                  <a:srgbClr val="ff0000"/>
                </a:solidFill>
                <a:latin typeface="BankGothic Md BT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ankGothic Md BT"/>
              </a:rPr>
              <a:t>ВЛИЯЕТ НА ВЫРАБОТКУ СЕРОТОНИНА         В ОРГАНИЗМЕ 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сследователи обнаружили, что любой яркий св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в том числе и солнечный,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вызывает в течение дня повышенную выработку серотонина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629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35A9-5FB5-4140-A8F3-B1FF5F04E28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2" name="Picture 4" descr="sreda new-7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04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47B-68E4-4EF4-B044-95AC5E02DD6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еланхолия (или хандра) считается одним из типов основных сезонных депрессий, её симптомы во многом схожи с  клинической депрессией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WordArt 5"/>
          <p:cNvSpPr txBox="1"/>
          <p:nvPr/>
        </p:nvSpPr>
        <p:spPr>
          <a:xfrm>
            <a:off x="533520" y="304920"/>
            <a:ext cx="8381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тор Норман Розенталь</a:t>
            </a:r>
            <a:endParaRPr b="0" lang="en-US" sz="28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Rectangle 6"/>
          <p:cNvSpPr/>
          <p:nvPr/>
        </p:nvSpPr>
        <p:spPr>
          <a:xfrm>
            <a:off x="0" y="2666880"/>
            <a:ext cx="601992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адок сил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зменение аппетит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клонность к излишне долгому сну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и, наконец, </a:t>
            </a: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еловеку становится просто трудно на чём-то одном сосредоточиться.</a:t>
            </a: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1008" name="Picture 9" descr="rosenthal"/>
          <p:cNvPicPr/>
          <p:nvPr/>
        </p:nvPicPr>
        <p:blipFill>
          <a:blip r:embed="rId1"/>
          <a:stretch/>
        </p:blipFill>
        <p:spPr>
          <a:xfrm>
            <a:off x="6019920" y="3429000"/>
            <a:ext cx="27432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Нижний колонтитул 4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10" name="Номер слайда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AC18-F966-41F9-9342-9A736D8C06D4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1011" name="Picture 6" descr="winters_l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9933"/>
            </a:outerShdw>
          </a:effectLst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 Narrow"/>
              </a:rPr>
              <a:t>Лечение таких расстройств  весьма простое           и очевидное:                                                             надо больше времени проводить                                 на свету в зимние месяцы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3" name="Group 7"/>
          <p:cNvGrpSpPr/>
          <p:nvPr/>
        </p:nvGrpSpPr>
        <p:grpSpPr>
          <a:xfrm>
            <a:off x="5867280" y="6553080"/>
            <a:ext cx="3200400" cy="457200"/>
            <a:chOff x="5867280" y="6553080"/>
            <a:chExt cx="3200400" cy="457200"/>
          </a:xfrm>
        </p:grpSpPr>
        <p:sp>
          <p:nvSpPr>
            <p:cNvPr id="1014" name="Rectangle 8"/>
            <p:cNvSpPr/>
            <p:nvPr/>
          </p:nvSpPr>
          <p:spPr>
            <a:xfrm>
              <a:off x="5867280" y="65530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1015" name="Rectangle 9"/>
            <p:cNvSpPr/>
            <p:nvPr/>
          </p:nvSpPr>
          <p:spPr>
            <a:xfrm>
              <a:off x="7162920" y="65530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2EA436-9423-44A2-A1D8-15351332EAB5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1016" name="Picture 11" descr="Рисунок3"/>
          <p:cNvPicPr/>
          <p:nvPr/>
        </p:nvPicPr>
        <p:blipFill>
          <a:blip r:embed="rId2"/>
          <a:stretch/>
        </p:blipFill>
        <p:spPr>
          <a:xfrm>
            <a:off x="6095880" y="586728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Нижний колонтитул 4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18" name="Номер слайда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C6A7-C45D-4092-B7EE-FF4D33C26774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19" name="Rectangle 9"/>
          <p:cNvSpPr/>
          <p:nvPr/>
        </p:nvSpPr>
        <p:spPr>
          <a:xfrm>
            <a:off x="4114800" y="0"/>
            <a:ext cx="50292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266720" y="304560"/>
            <a:ext cx="4876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Если случай не запущен, то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сего-то нужно минут по 30 заниматься физкультурой на утреннем солнышке, и всю зимнюю хандру как рукой снимет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.”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1" name="Group 10"/>
          <p:cNvGrpSpPr/>
          <p:nvPr/>
        </p:nvGrpSpPr>
        <p:grpSpPr>
          <a:xfrm>
            <a:off x="5486400" y="6477120"/>
            <a:ext cx="3200400" cy="457200"/>
            <a:chOff x="5486400" y="6477120"/>
            <a:chExt cx="3200400" cy="457200"/>
          </a:xfrm>
        </p:grpSpPr>
        <p:sp>
          <p:nvSpPr>
            <p:cNvPr id="1022" name="Rectangle 11"/>
            <p:cNvSpPr/>
            <p:nvPr/>
          </p:nvSpPr>
          <p:spPr>
            <a:xfrm>
              <a:off x="5486400" y="64771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1023" name="Rectangle 12"/>
            <p:cNvSpPr/>
            <p:nvPr/>
          </p:nvSpPr>
          <p:spPr>
            <a:xfrm>
              <a:off x="6782040" y="64771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6F43BF0-18A0-46F2-973D-895D893C24B5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1024" name="Picture 22" descr="walking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4" descr="Рисунок3"/>
          <p:cNvPicPr/>
          <p:nvPr/>
        </p:nvPicPr>
        <p:blipFill>
          <a:blip r:embed="rId2"/>
          <a:stretch/>
        </p:blipFill>
        <p:spPr>
          <a:xfrm>
            <a:off x="5638680" y="5854680"/>
            <a:ext cx="29386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27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760A-570A-4565-8FEF-9DEE70A894A7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29" name="Picture 4" descr="background white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5"/>
          <p:cNvSpPr/>
          <p:nvPr/>
        </p:nvSpPr>
        <p:spPr>
          <a:xfrm>
            <a:off x="1505880" y="2209680"/>
            <a:ext cx="584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ernard MT Condensed"/>
              </a:rPr>
              <a:t>Бог сможет </a:t>
            </a:r>
            <a:endParaRPr b="0" lang="en-US" sz="36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ernard MT Condensed"/>
              </a:rPr>
              <a:t>наполнить нашу жизнь </a:t>
            </a:r>
            <a:endParaRPr b="0" lang="en-US" sz="36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ernard MT Condensed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1031" name="Picture 6" descr="background copy"/>
          <p:cNvPicPr/>
          <p:nvPr/>
        </p:nvPicPr>
        <p:blipFill>
          <a:blip r:embed="rId2"/>
          <a:stretch/>
        </p:blipFill>
        <p:spPr>
          <a:xfrm>
            <a:off x="2971800" y="4137120"/>
            <a:ext cx="545004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634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A711-1DC0-435F-ABD1-49A566C2D4F8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635" name="Picture 245" descr="gardening"/>
          <p:cNvPicPr/>
          <p:nvPr/>
        </p:nvPicPr>
        <p:blipFill>
          <a:blip r:embed="rId1"/>
          <a:srcRect l="2459" t="3474" r="6850" b="4518"/>
          <a:stretch/>
        </p:blipFill>
        <p:spPr>
          <a:xfrm>
            <a:off x="0" y="2362320"/>
            <a:ext cx="3138480" cy="449568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601992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ся жизнь на Земле зависит от солнечной энергии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7" name="Group 250"/>
          <p:cNvGrpSpPr/>
          <p:nvPr/>
        </p:nvGrpSpPr>
        <p:grpSpPr>
          <a:xfrm>
            <a:off x="6553080" y="0"/>
            <a:ext cx="2590920" cy="2590920"/>
            <a:chOff x="6553080" y="0"/>
            <a:chExt cx="2590920" cy="2590920"/>
          </a:xfrm>
        </p:grpSpPr>
        <p:pic>
          <p:nvPicPr>
            <p:cNvPr id="638" name="Picture 247" descr="Bor217"/>
            <p:cNvPicPr/>
            <p:nvPr/>
          </p:nvPicPr>
          <p:blipFill>
            <a:blip r:embed="rId2"/>
            <a:stretch/>
          </p:blipFill>
          <p:spPr>
            <a:xfrm>
              <a:off x="6553080" y="0"/>
              <a:ext cx="2590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Oval 248"/>
            <p:cNvSpPr/>
            <p:nvPr/>
          </p:nvSpPr>
          <p:spPr>
            <a:xfrm>
              <a:off x="7162920" y="609480"/>
              <a:ext cx="137160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640" name="Picture 4" descr="letsplay"/>
          <p:cNvPicPr/>
          <p:nvPr/>
        </p:nvPicPr>
        <p:blipFill>
          <a:blip r:embed="rId3"/>
          <a:stretch/>
        </p:blipFill>
        <p:spPr>
          <a:xfrm>
            <a:off x="2971800" y="5105520"/>
            <a:ext cx="14032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244"/>
          <p:cNvGrpSpPr/>
          <p:nvPr/>
        </p:nvGrpSpPr>
        <p:grpSpPr>
          <a:xfrm>
            <a:off x="1948680" y="5527080"/>
            <a:ext cx="1945800" cy="1330200"/>
            <a:chOff x="1948680" y="5527080"/>
            <a:chExt cx="1945800" cy="1330200"/>
          </a:xfrm>
        </p:grpSpPr>
        <p:grpSp>
          <p:nvGrpSpPr>
            <p:cNvPr id="642" name="Group 160"/>
            <p:cNvGrpSpPr/>
            <p:nvPr/>
          </p:nvGrpSpPr>
          <p:grpSpPr>
            <a:xfrm>
              <a:off x="1948680" y="5527080"/>
              <a:ext cx="1008720" cy="1115280"/>
              <a:chOff x="1948680" y="5527080"/>
              <a:chExt cx="1008720" cy="1115280"/>
            </a:xfrm>
          </p:grpSpPr>
          <p:sp>
            <p:nvSpPr>
              <p:cNvPr id="643" name="Freeform 11"/>
              <p:cNvSpPr/>
              <p:nvPr/>
            </p:nvSpPr>
            <p:spPr>
              <a:xfrm rot="20520000">
                <a:off x="2043720" y="5644080"/>
                <a:ext cx="834480" cy="645120"/>
              </a:xfrm>
              <a:prstGeom prst="pie">
                <a:avLst/>
              </a:pr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44" name="Freeform 21"/>
              <p:cNvSpPr/>
              <p:nvPr/>
            </p:nvSpPr>
            <p:spPr>
              <a:xfrm rot="20520000">
                <a:off x="2432160" y="5715000"/>
                <a:ext cx="132840" cy="1807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45" name="Freeform 22"/>
              <p:cNvSpPr/>
              <p:nvPr/>
            </p:nvSpPr>
            <p:spPr>
              <a:xfrm rot="20520000">
                <a:off x="2313720" y="5895360"/>
                <a:ext cx="20376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46" name="Freeform 23"/>
              <p:cNvSpPr/>
              <p:nvPr/>
            </p:nvSpPr>
            <p:spPr>
              <a:xfrm rot="20520000">
                <a:off x="2458800" y="5868000"/>
                <a:ext cx="411480" cy="383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47" name="Freeform 24"/>
              <p:cNvSpPr/>
              <p:nvPr/>
            </p:nvSpPr>
            <p:spPr>
              <a:xfrm rot="20520000">
                <a:off x="2447280" y="5932080"/>
                <a:ext cx="136800" cy="196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48" name="Freeform 58"/>
              <p:cNvSpPr/>
              <p:nvPr/>
            </p:nvSpPr>
            <p:spPr>
              <a:xfrm rot="20520000">
                <a:off x="2472480" y="5841720"/>
                <a:ext cx="17280" cy="35640"/>
              </a:xfrm>
              <a:prstGeom prst="pie">
                <a:avLst/>
              </a:prstGeom>
              <a:solidFill>
                <a:srgbClr val="ff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49" name="Freeform 61"/>
              <p:cNvSpPr/>
              <p:nvPr/>
            </p:nvSpPr>
            <p:spPr>
              <a:xfrm rot="20520000">
                <a:off x="2728080" y="5938200"/>
                <a:ext cx="79560" cy="108000"/>
              </a:xfrm>
              <a:prstGeom prst="pie">
                <a:avLst/>
              </a:prstGeom>
              <a:solidFill>
                <a:srgbClr val="ff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50" name="Freeform 66"/>
              <p:cNvSpPr/>
              <p:nvPr/>
            </p:nvSpPr>
            <p:spPr>
              <a:xfrm rot="20520000">
                <a:off x="2501640" y="5836320"/>
                <a:ext cx="13320" cy="19440"/>
              </a:xfrm>
              <a:prstGeom prst="pie">
                <a:avLst/>
              </a:prstGeom>
              <a:solidFill>
                <a:srgbClr val="ff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51" name="Freeform 136"/>
              <p:cNvSpPr/>
              <p:nvPr/>
            </p:nvSpPr>
            <p:spPr>
              <a:xfrm rot="20520000">
                <a:off x="2658960" y="5982120"/>
                <a:ext cx="229680" cy="261360"/>
              </a:xfrm>
              <a:prstGeom prst="pie">
                <a:avLst/>
              </a:pr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52" name="Freeform 148"/>
              <p:cNvSpPr/>
              <p:nvPr/>
            </p:nvSpPr>
            <p:spPr>
              <a:xfrm rot="20520000">
                <a:off x="2037960" y="5685840"/>
                <a:ext cx="532800" cy="299880"/>
              </a:xfrm>
              <a:prstGeom prst="pie">
                <a:avLst/>
              </a:pr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53" name="Freeform 151"/>
              <p:cNvSpPr/>
              <p:nvPr/>
            </p:nvSpPr>
            <p:spPr>
              <a:xfrm rot="20520000">
                <a:off x="1979640" y="5650920"/>
                <a:ext cx="856800" cy="33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654" name="Freeform 154"/>
              <p:cNvSpPr/>
              <p:nvPr/>
            </p:nvSpPr>
            <p:spPr>
              <a:xfrm rot="20520000">
                <a:off x="2656440" y="5836320"/>
                <a:ext cx="212400" cy="38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grpSp>
            <p:nvGrpSpPr>
              <p:cNvPr id="655" name="Group 159"/>
              <p:cNvGrpSpPr/>
              <p:nvPr/>
            </p:nvGrpSpPr>
            <p:grpSpPr>
              <a:xfrm>
                <a:off x="1954800" y="5576400"/>
                <a:ext cx="1000800" cy="1065960"/>
                <a:chOff x="1954800" y="5576400"/>
                <a:chExt cx="1000800" cy="1065960"/>
              </a:xfrm>
            </p:grpSpPr>
            <p:sp>
              <p:nvSpPr>
                <p:cNvPr id="656" name="Freeform 10"/>
                <p:cNvSpPr/>
                <p:nvPr/>
              </p:nvSpPr>
              <p:spPr>
                <a:xfrm rot="20520000">
                  <a:off x="2770200" y="6132960"/>
                  <a:ext cx="115200" cy="471960"/>
                </a:xfrm>
                <a:prstGeom prst="pie">
                  <a:avLst/>
                </a:pr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57" name="Freeform 12"/>
                <p:cNvSpPr/>
                <p:nvPr/>
              </p:nvSpPr>
              <p:spPr>
                <a:xfrm rot="20520000">
                  <a:off x="2001600" y="5765040"/>
                  <a:ext cx="456120" cy="2631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58" name="Freeform 13"/>
                <p:cNvSpPr/>
                <p:nvPr/>
              </p:nvSpPr>
              <p:spPr>
                <a:xfrm rot="20520000">
                  <a:off x="2211480" y="5775840"/>
                  <a:ext cx="181080" cy="705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59" name="Freeform 14"/>
                <p:cNvSpPr/>
                <p:nvPr/>
              </p:nvSpPr>
              <p:spPr>
                <a:xfrm rot="20520000">
                  <a:off x="2216160" y="5737320"/>
                  <a:ext cx="175680" cy="572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0" name="Freeform 15"/>
                <p:cNvSpPr/>
                <p:nvPr/>
              </p:nvSpPr>
              <p:spPr>
                <a:xfrm rot="20520000">
                  <a:off x="2023920" y="6009480"/>
                  <a:ext cx="448920" cy="11772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 rot="20520000">
                  <a:off x="2336040" y="6025320"/>
                  <a:ext cx="225000" cy="3852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rot="20520000">
                  <a:off x="2175120" y="5935320"/>
                  <a:ext cx="304560" cy="766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3" name="Freeform 18"/>
                <p:cNvSpPr/>
                <p:nvPr/>
              </p:nvSpPr>
              <p:spPr>
                <a:xfrm rot="20520000">
                  <a:off x="2072520" y="5988960"/>
                  <a:ext cx="144360" cy="4212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4" name="Freeform 19"/>
                <p:cNvSpPr/>
                <p:nvPr/>
              </p:nvSpPr>
              <p:spPr>
                <a:xfrm rot="20520000">
                  <a:off x="2148840" y="5966640"/>
                  <a:ext cx="174600" cy="5832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5" name="Freeform 20"/>
                <p:cNvSpPr/>
                <p:nvPr/>
              </p:nvSpPr>
              <p:spPr>
                <a:xfrm rot="20520000">
                  <a:off x="2365920" y="5617440"/>
                  <a:ext cx="304560" cy="2350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6" name="Freeform 25"/>
                <p:cNvSpPr/>
                <p:nvPr/>
              </p:nvSpPr>
              <p:spPr>
                <a:xfrm rot="20520000">
                  <a:off x="2631960" y="5924160"/>
                  <a:ext cx="112320" cy="16740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7" name="Freeform 26"/>
                <p:cNvSpPr/>
                <p:nvPr/>
              </p:nvSpPr>
              <p:spPr>
                <a:xfrm rot="20520000">
                  <a:off x="2465640" y="5681160"/>
                  <a:ext cx="44640" cy="1616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8" name="Freeform 27"/>
                <p:cNvSpPr/>
                <p:nvPr/>
              </p:nvSpPr>
              <p:spPr>
                <a:xfrm rot="20520000">
                  <a:off x="2511360" y="5719320"/>
                  <a:ext cx="55440" cy="1364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69" name="Freeform 28"/>
                <p:cNvSpPr/>
                <p:nvPr/>
              </p:nvSpPr>
              <p:spPr>
                <a:xfrm rot="20520000">
                  <a:off x="2584440" y="5731200"/>
                  <a:ext cx="76320" cy="910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0" name="Freeform 29"/>
                <p:cNvSpPr/>
                <p:nvPr/>
              </p:nvSpPr>
              <p:spPr>
                <a:xfrm rot="20520000">
                  <a:off x="2210760" y="6045480"/>
                  <a:ext cx="148320" cy="262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1" name="Freeform 30"/>
                <p:cNvSpPr/>
                <p:nvPr/>
              </p:nvSpPr>
              <p:spPr>
                <a:xfrm rot="20520000">
                  <a:off x="2413080" y="5731560"/>
                  <a:ext cx="96840" cy="236880"/>
                </a:xfrm>
                <a:prstGeom prst="pi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2" name="Freeform 31"/>
                <p:cNvSpPr/>
                <p:nvPr/>
              </p:nvSpPr>
              <p:spPr>
                <a:xfrm rot="20520000">
                  <a:off x="2421000" y="5749200"/>
                  <a:ext cx="89280" cy="218160"/>
                </a:xfrm>
                <a:prstGeom prst="pi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3" name="Freeform 32"/>
                <p:cNvSpPr/>
                <p:nvPr/>
              </p:nvSpPr>
              <p:spPr>
                <a:xfrm rot="20520000">
                  <a:off x="2459520" y="5829480"/>
                  <a:ext cx="21960" cy="1162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4" name="Freeform 33"/>
                <p:cNvSpPr/>
                <p:nvPr/>
              </p:nvSpPr>
              <p:spPr>
                <a:xfrm rot="20520000">
                  <a:off x="2393640" y="5761800"/>
                  <a:ext cx="15480" cy="374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5" name="Freeform 34"/>
                <p:cNvSpPr/>
                <p:nvPr/>
              </p:nvSpPr>
              <p:spPr>
                <a:xfrm rot="20520000">
                  <a:off x="2079000" y="6038640"/>
                  <a:ext cx="53280" cy="244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6" name="Freeform 35"/>
                <p:cNvSpPr/>
                <p:nvPr/>
              </p:nvSpPr>
              <p:spPr>
                <a:xfrm rot="20520000">
                  <a:off x="2152440" y="5858640"/>
                  <a:ext cx="226080" cy="590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7" name="Freeform 36"/>
                <p:cNvSpPr/>
                <p:nvPr/>
              </p:nvSpPr>
              <p:spPr>
                <a:xfrm rot="20520000">
                  <a:off x="2150280" y="5941440"/>
                  <a:ext cx="158040" cy="496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8" name="Freeform 37"/>
                <p:cNvSpPr/>
                <p:nvPr/>
              </p:nvSpPr>
              <p:spPr>
                <a:xfrm rot="20520000">
                  <a:off x="2181600" y="5913360"/>
                  <a:ext cx="154080" cy="460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79" name="Freeform 38"/>
                <p:cNvSpPr/>
                <p:nvPr/>
              </p:nvSpPr>
              <p:spPr>
                <a:xfrm rot="20520000">
                  <a:off x="2135520" y="6007320"/>
                  <a:ext cx="51480" cy="187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0" name="Freeform 39"/>
                <p:cNvSpPr/>
                <p:nvPr/>
              </p:nvSpPr>
              <p:spPr>
                <a:xfrm rot="20520000">
                  <a:off x="2176920" y="6059520"/>
                  <a:ext cx="66600" cy="111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1" name="Freeform 40"/>
                <p:cNvSpPr/>
                <p:nvPr/>
              </p:nvSpPr>
              <p:spPr>
                <a:xfrm rot="20520000">
                  <a:off x="2257920" y="6018840"/>
                  <a:ext cx="137520" cy="147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2" name="Freeform 41"/>
                <p:cNvSpPr/>
                <p:nvPr/>
              </p:nvSpPr>
              <p:spPr>
                <a:xfrm rot="20520000">
                  <a:off x="2159640" y="5806080"/>
                  <a:ext cx="160920" cy="259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3" name="Freeform 42"/>
                <p:cNvSpPr/>
                <p:nvPr/>
              </p:nvSpPr>
              <p:spPr>
                <a:xfrm rot="20520000">
                  <a:off x="2209680" y="5772960"/>
                  <a:ext cx="75600" cy="187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4" name="Freeform 43"/>
                <p:cNvSpPr/>
                <p:nvPr/>
              </p:nvSpPr>
              <p:spPr>
                <a:xfrm rot="20520000">
                  <a:off x="2297520" y="5752440"/>
                  <a:ext cx="41400" cy="205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5" name="Freeform 44"/>
                <p:cNvSpPr/>
                <p:nvPr/>
              </p:nvSpPr>
              <p:spPr>
                <a:xfrm rot="20520000">
                  <a:off x="2340000" y="5787360"/>
                  <a:ext cx="25200" cy="252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6" name="Freeform 45"/>
                <p:cNvSpPr/>
                <p:nvPr/>
              </p:nvSpPr>
              <p:spPr>
                <a:xfrm rot="20520000">
                  <a:off x="2345040" y="5816160"/>
                  <a:ext cx="55080" cy="262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7" name="Freeform 46"/>
                <p:cNvSpPr/>
                <p:nvPr/>
              </p:nvSpPr>
              <p:spPr>
                <a:xfrm rot="20520000">
                  <a:off x="2108520" y="5946840"/>
                  <a:ext cx="32760" cy="129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8" name="Freeform 47"/>
                <p:cNvSpPr/>
                <p:nvPr/>
              </p:nvSpPr>
              <p:spPr>
                <a:xfrm rot="20520000">
                  <a:off x="2129760" y="5921280"/>
                  <a:ext cx="33840" cy="140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89" name="Freeform 48"/>
                <p:cNvSpPr/>
                <p:nvPr/>
              </p:nvSpPr>
              <p:spPr>
                <a:xfrm rot="20520000">
                  <a:off x="2189880" y="6100920"/>
                  <a:ext cx="36720" cy="111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0" name="Freeform 49"/>
                <p:cNvSpPr/>
                <p:nvPr/>
              </p:nvSpPr>
              <p:spPr>
                <a:xfrm rot="20520000">
                  <a:off x="2253600" y="6062400"/>
                  <a:ext cx="36720" cy="108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1" name="Freeform 50"/>
                <p:cNvSpPr/>
                <p:nvPr/>
              </p:nvSpPr>
              <p:spPr>
                <a:xfrm rot="20520000">
                  <a:off x="2305080" y="6075000"/>
                  <a:ext cx="37800" cy="72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2" name="Freeform 51"/>
                <p:cNvSpPr/>
                <p:nvPr/>
              </p:nvSpPr>
              <p:spPr>
                <a:xfrm rot="20520000">
                  <a:off x="2397240" y="5991120"/>
                  <a:ext cx="120960" cy="176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3" name="Freeform 52"/>
                <p:cNvSpPr/>
                <p:nvPr/>
              </p:nvSpPr>
              <p:spPr>
                <a:xfrm rot="20520000">
                  <a:off x="2419560" y="5671080"/>
                  <a:ext cx="60840" cy="835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4" name="Freeform 53"/>
                <p:cNvSpPr/>
                <p:nvPr/>
              </p:nvSpPr>
              <p:spPr>
                <a:xfrm rot="20520000">
                  <a:off x="2452320" y="5744160"/>
                  <a:ext cx="36720" cy="799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5" name="Freeform 54"/>
                <p:cNvSpPr/>
                <p:nvPr/>
              </p:nvSpPr>
              <p:spPr>
                <a:xfrm rot="20520000">
                  <a:off x="2492280" y="5722920"/>
                  <a:ext cx="56880" cy="1558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6" name="Freeform 55"/>
                <p:cNvSpPr/>
                <p:nvPr/>
              </p:nvSpPr>
              <p:spPr>
                <a:xfrm rot="20520000">
                  <a:off x="2523960" y="5737320"/>
                  <a:ext cx="60840" cy="1285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7" name="Freeform 56"/>
                <p:cNvSpPr/>
                <p:nvPr/>
              </p:nvSpPr>
              <p:spPr>
                <a:xfrm rot="20520000">
                  <a:off x="2568960" y="5683320"/>
                  <a:ext cx="54000" cy="1335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8" name="Freeform 57"/>
                <p:cNvSpPr/>
                <p:nvPr/>
              </p:nvSpPr>
              <p:spPr>
                <a:xfrm rot="20520000">
                  <a:off x="2600640" y="5745960"/>
                  <a:ext cx="71640" cy="720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699" name="Freeform 59"/>
                <p:cNvSpPr/>
                <p:nvPr/>
              </p:nvSpPr>
              <p:spPr>
                <a:xfrm rot="20520000">
                  <a:off x="2621880" y="5724000"/>
                  <a:ext cx="20160" cy="601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0" name="Freeform 60"/>
                <p:cNvSpPr/>
                <p:nvPr/>
              </p:nvSpPr>
              <p:spPr>
                <a:xfrm rot="20520000">
                  <a:off x="2596320" y="5904360"/>
                  <a:ext cx="82440" cy="579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1" name="Freeform 62"/>
                <p:cNvSpPr/>
                <p:nvPr/>
              </p:nvSpPr>
              <p:spPr>
                <a:xfrm rot="20520000">
                  <a:off x="2701080" y="5993640"/>
                  <a:ext cx="49320" cy="1418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2" name="Freeform 63"/>
                <p:cNvSpPr/>
                <p:nvPr/>
              </p:nvSpPr>
              <p:spPr>
                <a:xfrm rot="20520000">
                  <a:off x="2578320" y="5962320"/>
                  <a:ext cx="70560" cy="554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3" name="Freeform 64"/>
                <p:cNvSpPr/>
                <p:nvPr/>
              </p:nvSpPr>
              <p:spPr>
                <a:xfrm rot="20520000">
                  <a:off x="2638080" y="5953320"/>
                  <a:ext cx="56880" cy="601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4" name="Freeform 65"/>
                <p:cNvSpPr/>
                <p:nvPr/>
              </p:nvSpPr>
              <p:spPr>
                <a:xfrm rot="20520000">
                  <a:off x="2401920" y="5736240"/>
                  <a:ext cx="16200" cy="280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5" name="Freeform 67"/>
                <p:cNvSpPr/>
                <p:nvPr/>
              </p:nvSpPr>
              <p:spPr>
                <a:xfrm rot="20520000">
                  <a:off x="2820600" y="6222960"/>
                  <a:ext cx="44640" cy="3574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6" name="Freeform 135"/>
                <p:cNvSpPr/>
                <p:nvPr/>
              </p:nvSpPr>
              <p:spPr>
                <a:xfrm rot="20520000">
                  <a:off x="2261520" y="5858280"/>
                  <a:ext cx="344160" cy="179640"/>
                </a:xfrm>
                <a:prstGeom prst="pie">
                  <a:avLst/>
                </a:pr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7" name="Freeform 149"/>
                <p:cNvSpPr/>
                <p:nvPr/>
              </p:nvSpPr>
              <p:spPr>
                <a:xfrm rot="20520000">
                  <a:off x="1999800" y="5826240"/>
                  <a:ext cx="265680" cy="334440"/>
                </a:xfrm>
                <a:prstGeom prst="pie">
                  <a:avLst/>
                </a:pr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8" name="Freeform 150"/>
                <p:cNvSpPr/>
                <p:nvPr/>
              </p:nvSpPr>
              <p:spPr>
                <a:xfrm rot="20520000">
                  <a:off x="2034360" y="6021000"/>
                  <a:ext cx="631440" cy="191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09" name="Freeform 152"/>
                <p:cNvSpPr/>
                <p:nvPr/>
              </p:nvSpPr>
              <p:spPr>
                <a:xfrm rot="20520000">
                  <a:off x="2215800" y="5772240"/>
                  <a:ext cx="291960" cy="27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10" name="Freeform 153"/>
                <p:cNvSpPr/>
                <p:nvPr/>
              </p:nvSpPr>
              <p:spPr>
                <a:xfrm rot="20520000">
                  <a:off x="2411640" y="5713560"/>
                  <a:ext cx="200880" cy="24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11" name="Freeform 155"/>
                <p:cNvSpPr/>
                <p:nvPr/>
              </p:nvSpPr>
              <p:spPr>
                <a:xfrm rot="20520000">
                  <a:off x="2634480" y="5964840"/>
                  <a:ext cx="197640" cy="663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12" name="Freeform 156"/>
                <p:cNvSpPr/>
                <p:nvPr/>
              </p:nvSpPr>
              <p:spPr>
                <a:xfrm rot="20520000">
                  <a:off x="2827080" y="6190920"/>
                  <a:ext cx="67680" cy="400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713" name="Freeform 157"/>
                <p:cNvSpPr/>
                <p:nvPr/>
              </p:nvSpPr>
              <p:spPr>
                <a:xfrm rot="20520000">
                  <a:off x="2589840" y="5964120"/>
                  <a:ext cx="120960" cy="172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</p:grpSp>
        </p:grpSp>
        <p:grpSp>
          <p:nvGrpSpPr>
            <p:cNvPr id="714" name="Group 243"/>
            <p:cNvGrpSpPr/>
            <p:nvPr/>
          </p:nvGrpSpPr>
          <p:grpSpPr>
            <a:xfrm>
              <a:off x="2523240" y="5728680"/>
              <a:ext cx="791640" cy="1128600"/>
              <a:chOff x="2523240" y="5728680"/>
              <a:chExt cx="791640" cy="1128600"/>
            </a:xfrm>
          </p:grpSpPr>
          <p:sp>
            <p:nvSpPr>
              <p:cNvPr id="715" name="Freeform 162"/>
              <p:cNvSpPr/>
              <p:nvPr/>
            </p:nvSpPr>
            <p:spPr>
              <a:xfrm>
                <a:off x="2529360" y="6078960"/>
                <a:ext cx="785520" cy="771120"/>
              </a:xfrm>
              <a:prstGeom prst="pie">
                <a:avLst/>
              </a:pr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16" name="Freeform 163"/>
              <p:cNvSpPr/>
              <p:nvPr/>
            </p:nvSpPr>
            <p:spPr>
              <a:xfrm>
                <a:off x="2704680" y="5731200"/>
                <a:ext cx="512280" cy="372960"/>
              </a:xfrm>
              <a:prstGeom prst="pie">
                <a:avLst/>
              </a:prstGeom>
              <a:solidFill>
                <a:srgbClr val="ff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17" name="Freeform 164"/>
              <p:cNvSpPr/>
              <p:nvPr/>
            </p:nvSpPr>
            <p:spPr>
              <a:xfrm>
                <a:off x="2790720" y="5820480"/>
                <a:ext cx="379080" cy="313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18" name="Freeform 165"/>
              <p:cNvSpPr/>
              <p:nvPr/>
            </p:nvSpPr>
            <p:spPr>
              <a:xfrm>
                <a:off x="2720880" y="5911560"/>
                <a:ext cx="156960" cy="1350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19" name="Freeform 166"/>
              <p:cNvSpPr/>
              <p:nvPr/>
            </p:nvSpPr>
            <p:spPr>
              <a:xfrm>
                <a:off x="2787120" y="5742000"/>
                <a:ext cx="236520" cy="1015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0" name="Freeform 167"/>
              <p:cNvSpPr/>
              <p:nvPr/>
            </p:nvSpPr>
            <p:spPr>
              <a:xfrm>
                <a:off x="2731320" y="5921280"/>
                <a:ext cx="111600" cy="1123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1" name="Freeform 168"/>
              <p:cNvSpPr/>
              <p:nvPr/>
            </p:nvSpPr>
            <p:spPr>
              <a:xfrm>
                <a:off x="2743920" y="5841000"/>
                <a:ext cx="110520" cy="936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2" name="Freeform 169"/>
              <p:cNvSpPr/>
              <p:nvPr/>
            </p:nvSpPr>
            <p:spPr>
              <a:xfrm>
                <a:off x="2748960" y="5846760"/>
                <a:ext cx="48600" cy="8460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3" name="Freeform 170"/>
              <p:cNvSpPr/>
              <p:nvPr/>
            </p:nvSpPr>
            <p:spPr>
              <a:xfrm>
                <a:off x="2793600" y="5748480"/>
                <a:ext cx="221400" cy="7380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4" name="Freeform 171"/>
              <p:cNvSpPr/>
              <p:nvPr/>
            </p:nvSpPr>
            <p:spPr>
              <a:xfrm>
                <a:off x="2935080" y="6026760"/>
                <a:ext cx="156960" cy="51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5" name="Freeform 172"/>
              <p:cNvSpPr/>
              <p:nvPr/>
            </p:nvSpPr>
            <p:spPr>
              <a:xfrm>
                <a:off x="2940840" y="6032160"/>
                <a:ext cx="127440" cy="403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6" name="Freeform 173"/>
              <p:cNvSpPr/>
              <p:nvPr/>
            </p:nvSpPr>
            <p:spPr>
              <a:xfrm>
                <a:off x="3025800" y="5830200"/>
                <a:ext cx="173520" cy="1170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7" name="Freeform 174"/>
              <p:cNvSpPr/>
              <p:nvPr/>
            </p:nvSpPr>
            <p:spPr>
              <a:xfrm>
                <a:off x="3047760" y="5825880"/>
                <a:ext cx="112320" cy="70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8" name="Freeform 175"/>
              <p:cNvSpPr/>
              <p:nvPr/>
            </p:nvSpPr>
            <p:spPr>
              <a:xfrm>
                <a:off x="3047760" y="5840280"/>
                <a:ext cx="150480" cy="9540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29" name="Freeform 176"/>
              <p:cNvSpPr/>
              <p:nvPr/>
            </p:nvSpPr>
            <p:spPr>
              <a:xfrm>
                <a:off x="3054240" y="5832000"/>
                <a:ext cx="93960" cy="547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0" name="Freeform 177"/>
              <p:cNvSpPr/>
              <p:nvPr/>
            </p:nvSpPr>
            <p:spPr>
              <a:xfrm>
                <a:off x="2796120" y="5820480"/>
                <a:ext cx="283680" cy="22140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1" name="Freeform 178"/>
              <p:cNvSpPr/>
              <p:nvPr/>
            </p:nvSpPr>
            <p:spPr>
              <a:xfrm>
                <a:off x="2876760" y="5889600"/>
                <a:ext cx="177120" cy="129600"/>
              </a:xfrm>
              <a:prstGeom prst="pie">
                <a:avLst/>
              </a:prstGeom>
              <a:solidFill>
                <a:srgbClr val="8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2" name="Freeform 179"/>
              <p:cNvSpPr/>
              <p:nvPr/>
            </p:nvSpPr>
            <p:spPr>
              <a:xfrm>
                <a:off x="2952000" y="5972040"/>
                <a:ext cx="19440" cy="16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3" name="Freeform 180"/>
              <p:cNvSpPr/>
              <p:nvPr/>
            </p:nvSpPr>
            <p:spPr>
              <a:xfrm>
                <a:off x="2959200" y="5973480"/>
                <a:ext cx="12240" cy="1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4" name="Freeform 181"/>
              <p:cNvSpPr/>
              <p:nvPr/>
            </p:nvSpPr>
            <p:spPr>
              <a:xfrm>
                <a:off x="2797920" y="5752800"/>
                <a:ext cx="208080" cy="58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5" name="Freeform 182"/>
              <p:cNvSpPr/>
              <p:nvPr/>
            </p:nvSpPr>
            <p:spPr>
              <a:xfrm>
                <a:off x="2737440" y="5946480"/>
                <a:ext cx="921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6" name="Freeform 183"/>
              <p:cNvSpPr/>
              <p:nvPr/>
            </p:nvSpPr>
            <p:spPr>
              <a:xfrm>
                <a:off x="2754360" y="5853600"/>
                <a:ext cx="28800" cy="6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7" name="Freeform 184"/>
              <p:cNvSpPr/>
              <p:nvPr/>
            </p:nvSpPr>
            <p:spPr>
              <a:xfrm>
                <a:off x="2946960" y="6036840"/>
                <a:ext cx="98280" cy="29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8" name="Freeform 185"/>
              <p:cNvSpPr/>
              <p:nvPr/>
            </p:nvSpPr>
            <p:spPr>
              <a:xfrm>
                <a:off x="3071880" y="5859000"/>
                <a:ext cx="107280" cy="71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39" name="Freeform 186"/>
              <p:cNvSpPr/>
              <p:nvPr/>
            </p:nvSpPr>
            <p:spPr>
              <a:xfrm>
                <a:off x="3063960" y="5838480"/>
                <a:ext cx="62640" cy="34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0" name="Freeform 187"/>
              <p:cNvSpPr/>
              <p:nvPr/>
            </p:nvSpPr>
            <p:spPr>
              <a:xfrm>
                <a:off x="2939040" y="6005880"/>
                <a:ext cx="205560" cy="11880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1" name="Freeform 188"/>
              <p:cNvSpPr/>
              <p:nvPr/>
            </p:nvSpPr>
            <p:spPr>
              <a:xfrm>
                <a:off x="2954880" y="6083640"/>
                <a:ext cx="119520" cy="21060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2" name="Freeform 189"/>
              <p:cNvSpPr/>
              <p:nvPr/>
            </p:nvSpPr>
            <p:spPr>
              <a:xfrm>
                <a:off x="2914920" y="6207120"/>
                <a:ext cx="166680" cy="3592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3" name="Freeform 190"/>
              <p:cNvSpPr/>
              <p:nvPr/>
            </p:nvSpPr>
            <p:spPr>
              <a:xfrm>
                <a:off x="2565360" y="6497280"/>
                <a:ext cx="294120" cy="9720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4" name="Freeform 191"/>
              <p:cNvSpPr/>
              <p:nvPr/>
            </p:nvSpPr>
            <p:spPr>
              <a:xfrm>
                <a:off x="2707560" y="6457320"/>
                <a:ext cx="117000" cy="4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5" name="Freeform 192"/>
              <p:cNvSpPr/>
              <p:nvPr/>
            </p:nvSpPr>
            <p:spPr>
              <a:xfrm>
                <a:off x="2807640" y="6456600"/>
                <a:ext cx="214200" cy="13860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6" name="Freeform 193"/>
              <p:cNvSpPr/>
              <p:nvPr/>
            </p:nvSpPr>
            <p:spPr>
              <a:xfrm>
                <a:off x="2851920" y="6538680"/>
                <a:ext cx="213480" cy="1288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7" name="Freeform 194"/>
              <p:cNvSpPr/>
              <p:nvPr/>
            </p:nvSpPr>
            <p:spPr>
              <a:xfrm>
                <a:off x="3085200" y="6307920"/>
                <a:ext cx="201960" cy="2206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8" name="Freeform 195"/>
              <p:cNvSpPr/>
              <p:nvPr/>
            </p:nvSpPr>
            <p:spPr>
              <a:xfrm>
                <a:off x="2982240" y="6667560"/>
                <a:ext cx="117720" cy="9900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49" name="Freeform 196"/>
              <p:cNvSpPr/>
              <p:nvPr/>
            </p:nvSpPr>
            <p:spPr>
              <a:xfrm>
                <a:off x="3116880" y="6583680"/>
                <a:ext cx="91440" cy="18900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0" name="Freeform 197"/>
              <p:cNvSpPr/>
              <p:nvPr/>
            </p:nvSpPr>
            <p:spPr>
              <a:xfrm>
                <a:off x="3011760" y="6153120"/>
                <a:ext cx="73440" cy="210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1" name="Freeform 198"/>
              <p:cNvSpPr/>
              <p:nvPr/>
            </p:nvSpPr>
            <p:spPr>
              <a:xfrm>
                <a:off x="3061440" y="6470280"/>
                <a:ext cx="95400" cy="2008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2" name="Freeform 199"/>
              <p:cNvSpPr/>
              <p:nvPr/>
            </p:nvSpPr>
            <p:spPr>
              <a:xfrm>
                <a:off x="2738520" y="6557760"/>
                <a:ext cx="203040" cy="5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3" name="Freeform 200"/>
              <p:cNvSpPr/>
              <p:nvPr/>
            </p:nvSpPr>
            <p:spPr>
              <a:xfrm>
                <a:off x="2609280" y="6578280"/>
                <a:ext cx="325800" cy="10260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4" name="Freeform 201"/>
              <p:cNvSpPr/>
              <p:nvPr/>
            </p:nvSpPr>
            <p:spPr>
              <a:xfrm>
                <a:off x="2931840" y="6624360"/>
                <a:ext cx="111240" cy="49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5" name="Freeform 202"/>
              <p:cNvSpPr/>
              <p:nvPr/>
            </p:nvSpPr>
            <p:spPr>
              <a:xfrm>
                <a:off x="3062880" y="6659280"/>
                <a:ext cx="67320" cy="36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6" name="Freeform 203"/>
              <p:cNvSpPr/>
              <p:nvPr/>
            </p:nvSpPr>
            <p:spPr>
              <a:xfrm>
                <a:off x="2989440" y="6386400"/>
                <a:ext cx="46080" cy="156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7" name="Freeform 204"/>
              <p:cNvSpPr/>
              <p:nvPr/>
            </p:nvSpPr>
            <p:spPr>
              <a:xfrm>
                <a:off x="2946960" y="6243840"/>
                <a:ext cx="17640" cy="1530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8" name="Freeform 205"/>
              <p:cNvSpPr/>
              <p:nvPr/>
            </p:nvSpPr>
            <p:spPr>
              <a:xfrm>
                <a:off x="3218040" y="6304320"/>
                <a:ext cx="75240" cy="1530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59" name="Freeform 206"/>
              <p:cNvSpPr/>
              <p:nvPr/>
            </p:nvSpPr>
            <p:spPr>
              <a:xfrm>
                <a:off x="3031920" y="6352920"/>
                <a:ext cx="70920" cy="222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0" name="Freeform 207"/>
              <p:cNvSpPr/>
              <p:nvPr/>
            </p:nvSpPr>
            <p:spPr>
              <a:xfrm>
                <a:off x="3014280" y="6769440"/>
                <a:ext cx="123840" cy="630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1" name="Freeform 208"/>
              <p:cNvSpPr/>
              <p:nvPr/>
            </p:nvSpPr>
            <p:spPr>
              <a:xfrm>
                <a:off x="3186000" y="6469200"/>
                <a:ext cx="76320" cy="15012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2" name="Freeform 209"/>
              <p:cNvSpPr/>
              <p:nvPr/>
            </p:nvSpPr>
            <p:spPr>
              <a:xfrm>
                <a:off x="2699280" y="5907960"/>
                <a:ext cx="243720" cy="16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3" name="Freeform 210"/>
              <p:cNvSpPr/>
              <p:nvPr/>
            </p:nvSpPr>
            <p:spPr>
              <a:xfrm>
                <a:off x="2801160" y="5826960"/>
                <a:ext cx="25272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4" name="Freeform 211"/>
              <p:cNvSpPr/>
              <p:nvPr/>
            </p:nvSpPr>
            <p:spPr>
              <a:xfrm>
                <a:off x="2774880" y="5749200"/>
                <a:ext cx="131760" cy="20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5" name="Freeform 212"/>
              <p:cNvSpPr/>
              <p:nvPr/>
            </p:nvSpPr>
            <p:spPr>
              <a:xfrm>
                <a:off x="2718000" y="5828760"/>
                <a:ext cx="8316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6" name="Freeform 213"/>
              <p:cNvSpPr/>
              <p:nvPr/>
            </p:nvSpPr>
            <p:spPr>
              <a:xfrm>
                <a:off x="2771280" y="5728680"/>
                <a:ext cx="266760" cy="18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7" name="Freeform 214"/>
              <p:cNvSpPr/>
              <p:nvPr/>
            </p:nvSpPr>
            <p:spPr>
              <a:xfrm>
                <a:off x="3018600" y="5810400"/>
                <a:ext cx="2037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8" name="Freeform 215"/>
              <p:cNvSpPr/>
              <p:nvPr/>
            </p:nvSpPr>
            <p:spPr>
              <a:xfrm>
                <a:off x="3070080" y="5834880"/>
                <a:ext cx="9648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69" name="Freeform 216"/>
              <p:cNvSpPr/>
              <p:nvPr/>
            </p:nvSpPr>
            <p:spPr>
              <a:xfrm>
                <a:off x="2967840" y="5925960"/>
                <a:ext cx="19764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0" name="Freeform 217"/>
              <p:cNvSpPr/>
              <p:nvPr/>
            </p:nvSpPr>
            <p:spPr>
              <a:xfrm>
                <a:off x="2945160" y="5997960"/>
                <a:ext cx="204480" cy="10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1" name="Freeform 218"/>
              <p:cNvSpPr/>
              <p:nvPr/>
            </p:nvSpPr>
            <p:spPr>
              <a:xfrm>
                <a:off x="2936160" y="5987160"/>
                <a:ext cx="43200" cy="2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2" name="Freeform 219"/>
              <p:cNvSpPr/>
              <p:nvPr/>
            </p:nvSpPr>
            <p:spPr>
              <a:xfrm>
                <a:off x="2905920" y="6000840"/>
                <a:ext cx="1188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3" name="Freeform 220"/>
              <p:cNvSpPr/>
              <p:nvPr/>
            </p:nvSpPr>
            <p:spPr>
              <a:xfrm>
                <a:off x="2883960" y="6044760"/>
                <a:ext cx="16272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4" name="Freeform 221"/>
              <p:cNvSpPr/>
              <p:nvPr/>
            </p:nvSpPr>
            <p:spPr>
              <a:xfrm>
                <a:off x="2903400" y="6171120"/>
                <a:ext cx="176040" cy="42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5" name="Freeform 222"/>
              <p:cNvSpPr/>
              <p:nvPr/>
            </p:nvSpPr>
            <p:spPr>
              <a:xfrm>
                <a:off x="2706480" y="6560280"/>
                <a:ext cx="397800" cy="21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6" name="Freeform 223"/>
              <p:cNvSpPr/>
              <p:nvPr/>
            </p:nvSpPr>
            <p:spPr>
              <a:xfrm>
                <a:off x="3022200" y="6590160"/>
                <a:ext cx="54000" cy="8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7" name="Freeform 224"/>
              <p:cNvSpPr/>
              <p:nvPr/>
            </p:nvSpPr>
            <p:spPr>
              <a:xfrm>
                <a:off x="3061440" y="6586560"/>
                <a:ext cx="2880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8" name="Freeform 225"/>
              <p:cNvSpPr/>
              <p:nvPr/>
            </p:nvSpPr>
            <p:spPr>
              <a:xfrm>
                <a:off x="2962800" y="6121440"/>
                <a:ext cx="89280" cy="44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79" name="Freeform 226"/>
              <p:cNvSpPr/>
              <p:nvPr/>
            </p:nvSpPr>
            <p:spPr>
              <a:xfrm>
                <a:off x="3079800" y="6078240"/>
                <a:ext cx="3888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0" name="Freeform 227"/>
              <p:cNvSpPr/>
              <p:nvPr/>
            </p:nvSpPr>
            <p:spPr>
              <a:xfrm>
                <a:off x="3071880" y="6294240"/>
                <a:ext cx="227880" cy="28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1" name="Freeform 228"/>
              <p:cNvSpPr/>
              <p:nvPr/>
            </p:nvSpPr>
            <p:spPr>
              <a:xfrm>
                <a:off x="3081600" y="6464880"/>
                <a:ext cx="86760" cy="20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2" name="Freeform 229"/>
              <p:cNvSpPr/>
              <p:nvPr/>
            </p:nvSpPr>
            <p:spPr>
              <a:xfrm>
                <a:off x="3167640" y="6288120"/>
                <a:ext cx="146160" cy="22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3" name="Freeform 230"/>
              <p:cNvSpPr/>
              <p:nvPr/>
            </p:nvSpPr>
            <p:spPr>
              <a:xfrm>
                <a:off x="3168360" y="6455880"/>
                <a:ext cx="114120" cy="18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4" name="Freeform 231"/>
              <p:cNvSpPr/>
              <p:nvPr/>
            </p:nvSpPr>
            <p:spPr>
              <a:xfrm>
                <a:off x="2971800" y="6602400"/>
                <a:ext cx="259560" cy="25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5" name="Freeform 232"/>
              <p:cNvSpPr/>
              <p:nvPr/>
            </p:nvSpPr>
            <p:spPr>
              <a:xfrm>
                <a:off x="3131280" y="6635160"/>
                <a:ext cx="52200" cy="12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6" name="Freeform 233"/>
              <p:cNvSpPr/>
              <p:nvPr/>
            </p:nvSpPr>
            <p:spPr>
              <a:xfrm>
                <a:off x="2915640" y="6616440"/>
                <a:ext cx="8316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7" name="Freeform 234"/>
              <p:cNvSpPr/>
              <p:nvPr/>
            </p:nvSpPr>
            <p:spPr>
              <a:xfrm>
                <a:off x="2530080" y="6544080"/>
                <a:ext cx="27108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8" name="Freeform 235"/>
              <p:cNvSpPr/>
              <p:nvPr/>
            </p:nvSpPr>
            <p:spPr>
              <a:xfrm>
                <a:off x="2523240" y="6450480"/>
                <a:ext cx="392400" cy="18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89" name="Freeform 236"/>
              <p:cNvSpPr/>
              <p:nvPr/>
            </p:nvSpPr>
            <p:spPr>
              <a:xfrm>
                <a:off x="2733840" y="6526800"/>
                <a:ext cx="224280" cy="6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0" name="Freeform 237"/>
              <p:cNvSpPr/>
              <p:nvPr/>
            </p:nvSpPr>
            <p:spPr>
              <a:xfrm>
                <a:off x="2774160" y="6504480"/>
                <a:ext cx="257760" cy="13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1" name="Freeform 238"/>
              <p:cNvSpPr/>
              <p:nvPr/>
            </p:nvSpPr>
            <p:spPr>
              <a:xfrm>
                <a:off x="3038040" y="6340320"/>
                <a:ext cx="34560" cy="20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2" name="Freeform 239"/>
              <p:cNvSpPr/>
              <p:nvPr/>
            </p:nvSpPr>
            <p:spPr>
              <a:xfrm>
                <a:off x="3131280" y="6313320"/>
                <a:ext cx="151560" cy="16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3" name="Freeform 240"/>
              <p:cNvSpPr/>
              <p:nvPr/>
            </p:nvSpPr>
            <p:spPr>
              <a:xfrm>
                <a:off x="2828160" y="6619680"/>
                <a:ext cx="11124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4" name="Freeform 241"/>
              <p:cNvSpPr/>
              <p:nvPr/>
            </p:nvSpPr>
            <p:spPr>
              <a:xfrm>
                <a:off x="3061440" y="6647040"/>
                <a:ext cx="8820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5" name="Freeform 242"/>
              <p:cNvSpPr/>
              <p:nvPr/>
            </p:nvSpPr>
            <p:spPr>
              <a:xfrm>
                <a:off x="2657880" y="6563880"/>
                <a:ext cx="86040" cy="31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</p:grpSp>
        <p:grpSp>
          <p:nvGrpSpPr>
            <p:cNvPr id="796" name="Group 161"/>
            <p:cNvGrpSpPr/>
            <p:nvPr/>
          </p:nvGrpSpPr>
          <p:grpSpPr>
            <a:xfrm>
              <a:off x="3112920" y="5979600"/>
              <a:ext cx="781560" cy="789480"/>
              <a:chOff x="3112920" y="5979600"/>
              <a:chExt cx="781560" cy="789480"/>
            </a:xfrm>
          </p:grpSpPr>
          <p:sp>
            <p:nvSpPr>
              <p:cNvPr id="797" name="Freeform 69"/>
              <p:cNvSpPr/>
              <p:nvPr/>
            </p:nvSpPr>
            <p:spPr>
              <a:xfrm rot="853800">
                <a:off x="3210120" y="6049440"/>
                <a:ext cx="632160" cy="500400"/>
              </a:xfrm>
              <a:prstGeom prst="pie">
                <a:avLst/>
              </a:pr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8" name="Freeform 71"/>
              <p:cNvSpPr/>
              <p:nvPr/>
            </p:nvSpPr>
            <p:spPr>
              <a:xfrm rot="853800">
                <a:off x="3205440" y="6150960"/>
                <a:ext cx="376200" cy="347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799" name="Freeform 137"/>
              <p:cNvSpPr/>
              <p:nvPr/>
            </p:nvSpPr>
            <p:spPr>
              <a:xfrm rot="853800">
                <a:off x="3187080" y="6334560"/>
                <a:ext cx="215280" cy="96840"/>
              </a:xfrm>
              <a:prstGeom prst="pie">
                <a:avLst/>
              </a:pr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800" name="Freeform 142"/>
              <p:cNvSpPr/>
              <p:nvPr/>
            </p:nvSpPr>
            <p:spPr>
              <a:xfrm rot="853800">
                <a:off x="3161160" y="6435720"/>
                <a:ext cx="6256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sp>
            <p:nvSpPr>
              <p:cNvPr id="801" name="Freeform 143"/>
              <p:cNvSpPr/>
              <p:nvPr/>
            </p:nvSpPr>
            <p:spPr>
              <a:xfrm rot="853800">
                <a:off x="3191400" y="6261120"/>
                <a:ext cx="23940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ecff"/>
                  </a:solidFill>
                  <a:latin typeface="Bernard MT Condensed"/>
                </a:endParaRPr>
              </a:p>
            </p:txBody>
          </p:sp>
          <p:grpSp>
            <p:nvGrpSpPr>
              <p:cNvPr id="802" name="Group 158"/>
              <p:cNvGrpSpPr/>
              <p:nvPr/>
            </p:nvGrpSpPr>
            <p:grpSpPr>
              <a:xfrm>
                <a:off x="3112920" y="6012360"/>
                <a:ext cx="781560" cy="756720"/>
                <a:chOff x="3112920" y="6012360"/>
                <a:chExt cx="781560" cy="756720"/>
              </a:xfrm>
            </p:grpSpPr>
            <p:sp>
              <p:nvSpPr>
                <p:cNvPr id="803" name="Freeform 68"/>
                <p:cNvSpPr/>
                <p:nvPr/>
              </p:nvSpPr>
              <p:spPr>
                <a:xfrm rot="853800">
                  <a:off x="3159000" y="6375960"/>
                  <a:ext cx="150120" cy="374400"/>
                </a:xfrm>
                <a:prstGeom prst="pie">
                  <a:avLst/>
                </a:pr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04" name="Freeform 70"/>
                <p:cNvSpPr/>
                <p:nvPr/>
              </p:nvSpPr>
              <p:spPr>
                <a:xfrm rot="853800">
                  <a:off x="3494520" y="6188400"/>
                  <a:ext cx="38880" cy="165240"/>
                </a:xfrm>
                <a:prstGeom prst="pi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05" name="Freeform 72"/>
                <p:cNvSpPr/>
                <p:nvPr/>
              </p:nvSpPr>
              <p:spPr>
                <a:xfrm rot="853800">
                  <a:off x="3445920" y="6368760"/>
                  <a:ext cx="185040" cy="16740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06" name="Freeform 73"/>
                <p:cNvSpPr/>
                <p:nvPr/>
              </p:nvSpPr>
              <p:spPr>
                <a:xfrm rot="853800">
                  <a:off x="3400200" y="6039000"/>
                  <a:ext cx="208440" cy="1936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07" name="Freeform 74"/>
                <p:cNvSpPr/>
                <p:nvPr/>
              </p:nvSpPr>
              <p:spPr>
                <a:xfrm rot="853800">
                  <a:off x="3573360" y="6077520"/>
                  <a:ext cx="81360" cy="15912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08" name="Freeform 75"/>
                <p:cNvSpPr/>
                <p:nvPr/>
              </p:nvSpPr>
              <p:spPr>
                <a:xfrm rot="853800">
                  <a:off x="3618360" y="6115680"/>
                  <a:ext cx="103680" cy="1126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09" name="Freeform 76"/>
                <p:cNvSpPr/>
                <p:nvPr/>
              </p:nvSpPr>
              <p:spPr>
                <a:xfrm rot="853800">
                  <a:off x="3538080" y="6190200"/>
                  <a:ext cx="84240" cy="1389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0" name="Freeform 77"/>
                <p:cNvSpPr/>
                <p:nvPr/>
              </p:nvSpPr>
              <p:spPr>
                <a:xfrm rot="853800">
                  <a:off x="3616200" y="6207840"/>
                  <a:ext cx="37800" cy="694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1" name="Freeform 78"/>
                <p:cNvSpPr/>
                <p:nvPr/>
              </p:nvSpPr>
              <p:spPr>
                <a:xfrm rot="853800">
                  <a:off x="3657960" y="6222240"/>
                  <a:ext cx="59760" cy="590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2" name="Freeform 79"/>
                <p:cNvSpPr/>
                <p:nvPr/>
              </p:nvSpPr>
              <p:spPr>
                <a:xfrm rot="853800">
                  <a:off x="3707280" y="6239880"/>
                  <a:ext cx="49320" cy="543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3" name="Freeform 80"/>
                <p:cNvSpPr/>
                <p:nvPr/>
              </p:nvSpPr>
              <p:spPr>
                <a:xfrm rot="853800">
                  <a:off x="3706200" y="6198480"/>
                  <a:ext cx="61920" cy="525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4" name="Freeform 81"/>
                <p:cNvSpPr/>
                <p:nvPr/>
              </p:nvSpPr>
              <p:spPr>
                <a:xfrm rot="853800">
                  <a:off x="3581640" y="6283440"/>
                  <a:ext cx="197640" cy="525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5" name="Freeform 82"/>
                <p:cNvSpPr/>
                <p:nvPr/>
              </p:nvSpPr>
              <p:spPr>
                <a:xfrm rot="853800">
                  <a:off x="3732840" y="6255000"/>
                  <a:ext cx="73440" cy="939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6" name="Freeform 83"/>
                <p:cNvSpPr/>
                <p:nvPr/>
              </p:nvSpPr>
              <p:spPr>
                <a:xfrm rot="853800">
                  <a:off x="3616560" y="6220440"/>
                  <a:ext cx="209160" cy="2926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7" name="Freeform 84"/>
                <p:cNvSpPr/>
                <p:nvPr/>
              </p:nvSpPr>
              <p:spPr>
                <a:xfrm rot="853800">
                  <a:off x="3513240" y="6295320"/>
                  <a:ext cx="171360" cy="1004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8" name="Freeform 85"/>
                <p:cNvSpPr/>
                <p:nvPr/>
              </p:nvSpPr>
              <p:spPr>
                <a:xfrm rot="853800">
                  <a:off x="3565800" y="6293880"/>
                  <a:ext cx="54000" cy="4212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19" name="Freeform 86"/>
                <p:cNvSpPr/>
                <p:nvPr/>
              </p:nvSpPr>
              <p:spPr>
                <a:xfrm rot="853800">
                  <a:off x="3625560" y="6328440"/>
                  <a:ext cx="56160" cy="2340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0" name="Freeform 87"/>
                <p:cNvSpPr/>
                <p:nvPr/>
              </p:nvSpPr>
              <p:spPr>
                <a:xfrm rot="853800">
                  <a:off x="3680280" y="6335640"/>
                  <a:ext cx="62640" cy="381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1" name="Freeform 88"/>
                <p:cNvSpPr/>
                <p:nvPr/>
              </p:nvSpPr>
              <p:spPr>
                <a:xfrm rot="853800">
                  <a:off x="3633120" y="6296760"/>
                  <a:ext cx="28800" cy="244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2" name="Freeform 89"/>
                <p:cNvSpPr/>
                <p:nvPr/>
              </p:nvSpPr>
              <p:spPr>
                <a:xfrm rot="853800">
                  <a:off x="3576240" y="6420960"/>
                  <a:ext cx="204480" cy="12960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3" name="Freeform 90"/>
                <p:cNvSpPr/>
                <p:nvPr/>
              </p:nvSpPr>
              <p:spPr>
                <a:xfrm rot="853800">
                  <a:off x="3468960" y="6427800"/>
                  <a:ext cx="207360" cy="1155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4" name="Freeform 91"/>
                <p:cNvSpPr/>
                <p:nvPr/>
              </p:nvSpPr>
              <p:spPr>
                <a:xfrm rot="853800">
                  <a:off x="3313800" y="6430680"/>
                  <a:ext cx="395640" cy="1238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5" name="Freeform 92"/>
                <p:cNvSpPr/>
                <p:nvPr/>
              </p:nvSpPr>
              <p:spPr>
                <a:xfrm rot="853800">
                  <a:off x="3433680" y="6149520"/>
                  <a:ext cx="52560" cy="1335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6" name="Freeform 93"/>
                <p:cNvSpPr/>
                <p:nvPr/>
              </p:nvSpPr>
              <p:spPr>
                <a:xfrm rot="853800">
                  <a:off x="3540240" y="6270120"/>
                  <a:ext cx="91080" cy="741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7" name="Freeform 94"/>
                <p:cNvSpPr/>
                <p:nvPr/>
              </p:nvSpPr>
              <p:spPr>
                <a:xfrm rot="853800">
                  <a:off x="3548160" y="6183360"/>
                  <a:ext cx="14400" cy="910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8" name="Freeform 95"/>
                <p:cNvSpPr/>
                <p:nvPr/>
              </p:nvSpPr>
              <p:spPr>
                <a:xfrm rot="853800">
                  <a:off x="3568320" y="6207480"/>
                  <a:ext cx="66600" cy="835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29" name="Freeform 96"/>
                <p:cNvSpPr/>
                <p:nvPr/>
              </p:nvSpPr>
              <p:spPr>
                <a:xfrm rot="853800">
                  <a:off x="3309120" y="6309720"/>
                  <a:ext cx="111240" cy="363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0" name="Freeform 97"/>
                <p:cNvSpPr/>
                <p:nvPr/>
              </p:nvSpPr>
              <p:spPr>
                <a:xfrm rot="853800">
                  <a:off x="3296880" y="6346800"/>
                  <a:ext cx="130680" cy="306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1" name="Freeform 98"/>
                <p:cNvSpPr/>
                <p:nvPr/>
              </p:nvSpPr>
              <p:spPr>
                <a:xfrm rot="853800">
                  <a:off x="3400920" y="6369840"/>
                  <a:ext cx="116280" cy="1267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2" name="Freeform 99"/>
                <p:cNvSpPr/>
                <p:nvPr/>
              </p:nvSpPr>
              <p:spPr>
                <a:xfrm rot="853800">
                  <a:off x="3479400" y="6406560"/>
                  <a:ext cx="116280" cy="946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3" name="Freeform 100"/>
                <p:cNvSpPr/>
                <p:nvPr/>
              </p:nvSpPr>
              <p:spPr>
                <a:xfrm rot="853800">
                  <a:off x="3517200" y="6392160"/>
                  <a:ext cx="178560" cy="1004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4" name="Freeform 101"/>
                <p:cNvSpPr/>
                <p:nvPr/>
              </p:nvSpPr>
              <p:spPr>
                <a:xfrm rot="853800">
                  <a:off x="3596040" y="6370560"/>
                  <a:ext cx="73440" cy="158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5" name="Freeform 102"/>
                <p:cNvSpPr/>
                <p:nvPr/>
              </p:nvSpPr>
              <p:spPr>
                <a:xfrm rot="853800">
                  <a:off x="3550320" y="6351120"/>
                  <a:ext cx="59040" cy="104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6" name="Freeform 103"/>
                <p:cNvSpPr/>
                <p:nvPr/>
              </p:nvSpPr>
              <p:spPr>
                <a:xfrm rot="853800">
                  <a:off x="3631320" y="6401880"/>
                  <a:ext cx="93240" cy="385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7" name="Freeform 104"/>
                <p:cNvSpPr/>
                <p:nvPr/>
              </p:nvSpPr>
              <p:spPr>
                <a:xfrm rot="853800">
                  <a:off x="3610080" y="6359400"/>
                  <a:ext cx="140400" cy="165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8" name="Freeform 105"/>
                <p:cNvSpPr/>
                <p:nvPr/>
              </p:nvSpPr>
              <p:spPr>
                <a:xfrm rot="853800">
                  <a:off x="3706920" y="6350400"/>
                  <a:ext cx="15480" cy="118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39" name="Freeform 106"/>
                <p:cNvSpPr/>
                <p:nvPr/>
              </p:nvSpPr>
              <p:spPr>
                <a:xfrm rot="853800">
                  <a:off x="3666600" y="6338520"/>
                  <a:ext cx="17280" cy="140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0" name="Freeform 107"/>
                <p:cNvSpPr/>
                <p:nvPr/>
              </p:nvSpPr>
              <p:spPr>
                <a:xfrm rot="853800">
                  <a:off x="3741480" y="6355440"/>
                  <a:ext cx="20160" cy="363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1" name="Freeform 108"/>
                <p:cNvSpPr/>
                <p:nvPr/>
              </p:nvSpPr>
              <p:spPr>
                <a:xfrm rot="853800">
                  <a:off x="3751560" y="6398280"/>
                  <a:ext cx="27000" cy="291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2" name="Freeform 109"/>
                <p:cNvSpPr/>
                <p:nvPr/>
              </p:nvSpPr>
              <p:spPr>
                <a:xfrm rot="853800">
                  <a:off x="3632040" y="6310440"/>
                  <a:ext cx="80280" cy="356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3" name="Freeform 110"/>
                <p:cNvSpPr/>
                <p:nvPr/>
              </p:nvSpPr>
              <p:spPr>
                <a:xfrm rot="853800">
                  <a:off x="3617280" y="6298560"/>
                  <a:ext cx="27000" cy="187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4" name="Freeform 111"/>
                <p:cNvSpPr/>
                <p:nvPr/>
              </p:nvSpPr>
              <p:spPr>
                <a:xfrm rot="853800">
                  <a:off x="3636000" y="6263280"/>
                  <a:ext cx="123120" cy="432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5" name="Freeform 112"/>
                <p:cNvSpPr/>
                <p:nvPr/>
              </p:nvSpPr>
              <p:spPr>
                <a:xfrm rot="853800">
                  <a:off x="3650400" y="6235200"/>
                  <a:ext cx="36720" cy="291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6" name="Freeform 113"/>
                <p:cNvSpPr/>
                <p:nvPr/>
              </p:nvSpPr>
              <p:spPr>
                <a:xfrm rot="853800">
                  <a:off x="3602160" y="6174000"/>
                  <a:ext cx="15120" cy="478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7" name="Freeform 114"/>
                <p:cNvSpPr/>
                <p:nvPr/>
              </p:nvSpPr>
              <p:spPr>
                <a:xfrm rot="853800">
                  <a:off x="3635280" y="6166080"/>
                  <a:ext cx="19440" cy="432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8" name="Freeform 115"/>
                <p:cNvSpPr/>
                <p:nvPr/>
              </p:nvSpPr>
              <p:spPr>
                <a:xfrm rot="853800">
                  <a:off x="3669840" y="6206040"/>
                  <a:ext cx="22320" cy="169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49" name="Freeform 116"/>
                <p:cNvSpPr/>
                <p:nvPr/>
              </p:nvSpPr>
              <p:spPr>
                <a:xfrm rot="853800">
                  <a:off x="3701160" y="6203160"/>
                  <a:ext cx="15480" cy="122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0" name="Freeform 117"/>
                <p:cNvSpPr/>
                <p:nvPr/>
              </p:nvSpPr>
              <p:spPr>
                <a:xfrm rot="853800">
                  <a:off x="3507480" y="6124320"/>
                  <a:ext cx="7560" cy="468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1" name="Freeform 118"/>
                <p:cNvSpPr/>
                <p:nvPr/>
              </p:nvSpPr>
              <p:spPr>
                <a:xfrm rot="853800">
                  <a:off x="3403440" y="6192720"/>
                  <a:ext cx="18360" cy="612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2" name="Freeform 119"/>
                <p:cNvSpPr/>
                <p:nvPr/>
              </p:nvSpPr>
              <p:spPr>
                <a:xfrm rot="853800">
                  <a:off x="3548880" y="6108120"/>
                  <a:ext cx="5760" cy="6948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3" name="Freeform 120"/>
                <p:cNvSpPr/>
                <p:nvPr/>
              </p:nvSpPr>
              <p:spPr>
                <a:xfrm rot="853800">
                  <a:off x="3569400" y="6125760"/>
                  <a:ext cx="9360" cy="345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4" name="Freeform 121"/>
                <p:cNvSpPr/>
                <p:nvPr/>
              </p:nvSpPr>
              <p:spPr>
                <a:xfrm rot="853800">
                  <a:off x="3596400" y="6105240"/>
                  <a:ext cx="5760" cy="4500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5" name="Freeform 122"/>
                <p:cNvSpPr/>
                <p:nvPr/>
              </p:nvSpPr>
              <p:spPr>
                <a:xfrm rot="853800">
                  <a:off x="3580200" y="6164280"/>
                  <a:ext cx="20160" cy="572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6" name="Freeform 123"/>
                <p:cNvSpPr/>
                <p:nvPr/>
              </p:nvSpPr>
              <p:spPr>
                <a:xfrm rot="853800">
                  <a:off x="3355200" y="6446520"/>
                  <a:ext cx="80280" cy="525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7" name="Freeform 124"/>
                <p:cNvSpPr/>
                <p:nvPr/>
              </p:nvSpPr>
              <p:spPr>
                <a:xfrm rot="853800">
                  <a:off x="3403080" y="6474240"/>
                  <a:ext cx="49320" cy="338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8" name="Freeform 125"/>
                <p:cNvSpPr/>
                <p:nvPr/>
              </p:nvSpPr>
              <p:spPr>
                <a:xfrm rot="853800">
                  <a:off x="3730320" y="6469920"/>
                  <a:ext cx="24120" cy="1404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59" name="Freeform 126"/>
                <p:cNvSpPr/>
                <p:nvPr/>
              </p:nvSpPr>
              <p:spPr>
                <a:xfrm rot="853800">
                  <a:off x="3704400" y="6478200"/>
                  <a:ext cx="25200" cy="756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0" name="Freeform 127"/>
                <p:cNvSpPr/>
                <p:nvPr/>
              </p:nvSpPr>
              <p:spPr>
                <a:xfrm rot="853800">
                  <a:off x="3765960" y="6311160"/>
                  <a:ext cx="12240" cy="259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1" name="Freeform 128"/>
                <p:cNvSpPr/>
                <p:nvPr/>
              </p:nvSpPr>
              <p:spPr>
                <a:xfrm rot="853800">
                  <a:off x="3775680" y="6350760"/>
                  <a:ext cx="24120" cy="25920"/>
                </a:xfrm>
                <a:prstGeom prst="pie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2" name="Freeform 129"/>
                <p:cNvSpPr/>
                <p:nvPr/>
              </p:nvSpPr>
              <p:spPr>
                <a:xfrm rot="853800">
                  <a:off x="3486600" y="6187680"/>
                  <a:ext cx="49320" cy="170280"/>
                </a:xfrm>
                <a:prstGeom prst="pi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3" name="Freeform 130"/>
                <p:cNvSpPr/>
                <p:nvPr/>
              </p:nvSpPr>
              <p:spPr>
                <a:xfrm rot="853800">
                  <a:off x="3516120" y="6203160"/>
                  <a:ext cx="11520" cy="410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4" name="Freeform 131"/>
                <p:cNvSpPr/>
                <p:nvPr/>
              </p:nvSpPr>
              <p:spPr>
                <a:xfrm rot="853800">
                  <a:off x="3503160" y="6269760"/>
                  <a:ext cx="12240" cy="676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5" name="Freeform 132"/>
                <p:cNvSpPr/>
                <p:nvPr/>
              </p:nvSpPr>
              <p:spPr>
                <a:xfrm rot="853800">
                  <a:off x="3155400" y="6383520"/>
                  <a:ext cx="126000" cy="36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6" name="Freeform 133"/>
                <p:cNvSpPr/>
                <p:nvPr/>
              </p:nvSpPr>
              <p:spPr>
                <a:xfrm rot="853800">
                  <a:off x="3180240" y="6397200"/>
                  <a:ext cx="123840" cy="36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7" name="Freeform 134"/>
                <p:cNvSpPr/>
                <p:nvPr/>
              </p:nvSpPr>
              <p:spPr>
                <a:xfrm rot="853800">
                  <a:off x="3178080" y="6458040"/>
                  <a:ext cx="53280" cy="2548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8" name="Freeform 138"/>
                <p:cNvSpPr/>
                <p:nvPr/>
              </p:nvSpPr>
              <p:spPr>
                <a:xfrm rot="853800">
                  <a:off x="3318840" y="6188760"/>
                  <a:ext cx="181080" cy="158040"/>
                </a:xfrm>
                <a:prstGeom prst="pie">
                  <a:avLst/>
                </a:pr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69" name="Freeform 139"/>
                <p:cNvSpPr/>
                <p:nvPr/>
              </p:nvSpPr>
              <p:spPr>
                <a:xfrm rot="853800">
                  <a:off x="3417480" y="6059160"/>
                  <a:ext cx="322920" cy="145800"/>
                </a:xfrm>
                <a:prstGeom prst="pie">
                  <a:avLst/>
                </a:pr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70" name="Freeform 140"/>
                <p:cNvSpPr/>
                <p:nvPr/>
              </p:nvSpPr>
              <p:spPr>
                <a:xfrm rot="853800">
                  <a:off x="3767040" y="6321240"/>
                  <a:ext cx="48960" cy="205920"/>
                </a:xfrm>
                <a:prstGeom prst="pie">
                  <a:avLst/>
                </a:pr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71" name="Freeform 141"/>
                <p:cNvSpPr/>
                <p:nvPr/>
              </p:nvSpPr>
              <p:spPr>
                <a:xfrm rot="853800">
                  <a:off x="3465720" y="6284160"/>
                  <a:ext cx="143280" cy="201240"/>
                </a:xfrm>
                <a:prstGeom prst="pie">
                  <a:avLst/>
                </a:pr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72" name="Freeform 144"/>
                <p:cNvSpPr/>
                <p:nvPr/>
              </p:nvSpPr>
              <p:spPr>
                <a:xfrm rot="853800">
                  <a:off x="3353400" y="6067080"/>
                  <a:ext cx="497520" cy="414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73" name="Freeform 145"/>
                <p:cNvSpPr/>
                <p:nvPr/>
              </p:nvSpPr>
              <p:spPr>
                <a:xfrm rot="853800">
                  <a:off x="3434760" y="6179400"/>
                  <a:ext cx="98640" cy="19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74" name="Freeform 146"/>
                <p:cNvSpPr/>
                <p:nvPr/>
              </p:nvSpPr>
              <p:spPr>
                <a:xfrm rot="853800">
                  <a:off x="3492000" y="6381720"/>
                  <a:ext cx="92160" cy="10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  <p:sp>
              <p:nvSpPr>
                <p:cNvPr id="875" name="Freeform 147"/>
                <p:cNvSpPr/>
                <p:nvPr/>
              </p:nvSpPr>
              <p:spPr>
                <a:xfrm rot="853800">
                  <a:off x="3517560" y="6348240"/>
                  <a:ext cx="62640" cy="26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ecff"/>
                    </a:solidFill>
                    <a:latin typeface="Bernard MT Condensed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877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6598-65E4-42AB-B27F-7440D17DC56A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878" name="Rectangle 183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879" name="Picture 182" descr="sunshine"/>
          <p:cNvPicPr/>
          <p:nvPr/>
        </p:nvPicPr>
        <p:blipFill>
          <a:blip r:embed="rId1">
            <a:lum bright="18000"/>
          </a:blip>
          <a:srcRect l="0" t="0" r="2498" b="3233"/>
          <a:stretch/>
        </p:blipFill>
        <p:spPr>
          <a:xfrm>
            <a:off x="0" y="0"/>
            <a:ext cx="9144000" cy="468936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ез солнечного света жизнь на Земле закончилась бы очень быстро!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81" name="Group 184"/>
          <p:cNvGrpSpPr/>
          <p:nvPr/>
        </p:nvGrpSpPr>
        <p:grpSpPr>
          <a:xfrm>
            <a:off x="5867280" y="6477120"/>
            <a:ext cx="3200400" cy="457200"/>
            <a:chOff x="5867280" y="6477120"/>
            <a:chExt cx="3200400" cy="457200"/>
          </a:xfrm>
        </p:grpSpPr>
        <p:sp>
          <p:nvSpPr>
            <p:cNvPr id="882" name="Rectangle 185"/>
            <p:cNvSpPr/>
            <p:nvPr/>
          </p:nvSpPr>
          <p:spPr>
            <a:xfrm>
              <a:off x="5867280" y="64771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883" name="Rectangle 186"/>
            <p:cNvSpPr/>
            <p:nvPr/>
          </p:nvSpPr>
          <p:spPr>
            <a:xfrm>
              <a:off x="7162920" y="64771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257299D-8AC7-4C77-892A-87F8CC495574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884" name="Picture 188" descr="Рисунок3"/>
          <p:cNvPicPr/>
          <p:nvPr/>
        </p:nvPicPr>
        <p:blipFill>
          <a:blip r:embed="rId2"/>
          <a:stretch/>
        </p:blipFill>
        <p:spPr>
          <a:xfrm>
            <a:off x="609588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886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0549-AEDF-4A3D-8F98-C5372C1B4DD0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887" name="Picture 1034" descr="sunshin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8600" y="914400"/>
            <a:ext cx="5334120" cy="510552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Солнечный свет передаётся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486400" y="990720"/>
            <a:ext cx="36576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виде электромагнитных волн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евидимый свет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видимый свет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 др. различные  излучения и волны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Нижний колонтитул 3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891" name="Номер слайда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421A-501E-4078-80A3-1214C9C59AC2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Tahoma"/>
              </a:rPr>
              <a:t>Невидимый свет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льтрафиолетовое излучение обладает биологическим воздействи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1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%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олнечного излуче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ожительным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трицательным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нфракрасный свет даёт тепло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5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%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сего излуче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4" name="Group 7"/>
          <p:cNvGrpSpPr/>
          <p:nvPr/>
        </p:nvGrpSpPr>
        <p:grpSpPr>
          <a:xfrm>
            <a:off x="6629400" y="0"/>
            <a:ext cx="2514600" cy="2361960"/>
            <a:chOff x="6629400" y="0"/>
            <a:chExt cx="2514600" cy="2361960"/>
          </a:xfrm>
        </p:grpSpPr>
        <p:pic>
          <p:nvPicPr>
            <p:cNvPr id="895" name="Picture 5" descr="Bor217"/>
            <p:cNvPicPr/>
            <p:nvPr/>
          </p:nvPicPr>
          <p:blipFill>
            <a:blip r:embed="rId1"/>
            <a:stretch/>
          </p:blipFill>
          <p:spPr>
            <a:xfrm>
              <a:off x="6629400" y="0"/>
              <a:ext cx="251460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6"/>
            <p:cNvSpPr/>
            <p:nvPr/>
          </p:nvSpPr>
          <p:spPr>
            <a:xfrm>
              <a:off x="7221600" y="555120"/>
              <a:ext cx="1330200" cy="125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897" name="Picture 9" descr="K-sf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98" name="Line 11"/>
          <p:cNvSpPr/>
          <p:nvPr/>
        </p:nvSpPr>
        <p:spPr>
          <a:xfrm>
            <a:off x="762120" y="609480"/>
            <a:ext cx="601956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899" name="Line 12"/>
          <p:cNvSpPr/>
          <p:nvPr/>
        </p:nvSpPr>
        <p:spPr>
          <a:xfrm>
            <a:off x="762120" y="609480"/>
            <a:ext cx="0" cy="47246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00" name="Line 13"/>
          <p:cNvSpPr/>
          <p:nvPr/>
        </p:nvSpPr>
        <p:spPr>
          <a:xfrm>
            <a:off x="1295280" y="5791320"/>
            <a:ext cx="731520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01" name="Line 14"/>
          <p:cNvSpPr/>
          <p:nvPr/>
        </p:nvSpPr>
        <p:spPr>
          <a:xfrm flipV="1">
            <a:off x="8610480" y="1600200"/>
            <a:ext cx="0" cy="41911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4800240" y="2971440"/>
            <a:ext cx="396252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Составляет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40%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солнечного излучения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Rectangle 49"/>
          <p:cNvSpPr/>
          <p:nvPr/>
        </p:nvSpPr>
        <p:spPr>
          <a:xfrm>
            <a:off x="-4327560" y="384192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grpSp>
        <p:nvGrpSpPr>
          <p:cNvPr id="904" name="Group 97"/>
          <p:cNvGrpSpPr/>
          <p:nvPr/>
        </p:nvGrpSpPr>
        <p:grpSpPr>
          <a:xfrm>
            <a:off x="5562720" y="6400800"/>
            <a:ext cx="3352320" cy="457200"/>
            <a:chOff x="5562720" y="6400800"/>
            <a:chExt cx="3352320" cy="457200"/>
          </a:xfrm>
        </p:grpSpPr>
        <p:sp>
          <p:nvSpPr>
            <p:cNvPr id="905" name="Rectangle 95"/>
            <p:cNvSpPr/>
            <p:nvPr/>
          </p:nvSpPr>
          <p:spPr>
            <a:xfrm>
              <a:off x="55627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906" name="Rectangle 96"/>
            <p:cNvSpPr/>
            <p:nvPr/>
          </p:nvSpPr>
          <p:spPr>
            <a:xfrm>
              <a:off x="701028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87BD6FA-EDAE-4038-ABC3-BAF0DB5DD66D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907" name="Picture 99" descr="beaches-shellin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8" name="WordArt 100"/>
          <p:cNvSpPr txBox="1"/>
          <p:nvPr/>
        </p:nvSpPr>
        <p:spPr>
          <a:xfrm>
            <a:off x="5257800" y="533520"/>
            <a:ext cx="35053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имый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ет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Нижний колонтитул 4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10" name="Номер слайда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6279-7450-45AD-A266-91F02FA7630B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11" name="Rectangle 21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912" name="Picture 19" descr="j0116256"/>
          <p:cNvPicPr/>
          <p:nvPr/>
        </p:nvPicPr>
        <p:blipFill>
          <a:blip r:embed="rId1"/>
          <a:stretch/>
        </p:blipFill>
        <p:spPr>
          <a:xfrm>
            <a:off x="2590920" y="152388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913" name="WordArt 11"/>
          <p:cNvSpPr txBox="1"/>
          <p:nvPr/>
        </p:nvSpPr>
        <p:spPr>
          <a:xfrm>
            <a:off x="838080" y="304920"/>
            <a:ext cx="609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нечный свет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14" name="Group 15"/>
          <p:cNvGrpSpPr/>
          <p:nvPr/>
        </p:nvGrpSpPr>
        <p:grpSpPr>
          <a:xfrm>
            <a:off x="7086600" y="228600"/>
            <a:ext cx="1981080" cy="1981080"/>
            <a:chOff x="7086600" y="228600"/>
            <a:chExt cx="1981080" cy="1981080"/>
          </a:xfrm>
        </p:grpSpPr>
        <p:pic>
          <p:nvPicPr>
            <p:cNvPr id="915" name="Picture 16" descr="Bor217"/>
            <p:cNvPicPr/>
            <p:nvPr/>
          </p:nvPicPr>
          <p:blipFill>
            <a:blip r:embed="rId2"/>
            <a:stretch/>
          </p:blipFill>
          <p:spPr>
            <a:xfrm>
              <a:off x="7086600" y="22860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Oval 17"/>
            <p:cNvSpPr/>
            <p:nvPr/>
          </p:nvSpPr>
          <p:spPr>
            <a:xfrm>
              <a:off x="7552800" y="694440"/>
              <a:ext cx="1048680" cy="104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917" name="Picture 20" descr="j0197798"/>
          <p:cNvPicPr/>
          <p:nvPr/>
        </p:nvPicPr>
        <p:blipFill>
          <a:blip r:embed="rId3"/>
          <a:stretch/>
        </p:blipFill>
        <p:spPr>
          <a:xfrm>
            <a:off x="0" y="2327400"/>
            <a:ext cx="1981080" cy="3235320"/>
          </a:xfrm>
          <a:prstGeom prst="rect">
            <a:avLst/>
          </a:prstGeom>
          <a:ln w="0">
            <a:noFill/>
          </a:ln>
        </p:spPr>
      </p:pic>
      <p:grpSp>
        <p:nvGrpSpPr>
          <p:cNvPr id="918" name="Group 22"/>
          <p:cNvGrpSpPr/>
          <p:nvPr/>
        </p:nvGrpSpPr>
        <p:grpSpPr>
          <a:xfrm>
            <a:off x="5715000" y="6477120"/>
            <a:ext cx="3352680" cy="457200"/>
            <a:chOff x="5715000" y="6477120"/>
            <a:chExt cx="3352680" cy="457200"/>
          </a:xfrm>
        </p:grpSpPr>
        <p:sp>
          <p:nvSpPr>
            <p:cNvPr id="919" name="Rectangle 23"/>
            <p:cNvSpPr/>
            <p:nvPr/>
          </p:nvSpPr>
          <p:spPr>
            <a:xfrm>
              <a:off x="571500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920" name="Rectangle 24"/>
            <p:cNvSpPr/>
            <p:nvPr/>
          </p:nvSpPr>
          <p:spPr>
            <a:xfrm>
              <a:off x="716256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82FCE10-533E-4DCA-AD37-5343C0D343F1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921" name="Picture 27" descr="Рисунок3"/>
          <p:cNvPicPr/>
          <p:nvPr/>
        </p:nvPicPr>
        <p:blipFill>
          <a:blip r:embed="rId4"/>
          <a:stretch/>
        </p:blipFill>
        <p:spPr>
          <a:xfrm>
            <a:off x="5943600" y="5549760"/>
            <a:ext cx="2938320" cy="13082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Без него не могут жить ни растения,         ни живые существ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Нижний колонтитул 5"/>
          <p:cNvSpPr/>
          <p:nvPr/>
        </p:nvSpPr>
        <p:spPr>
          <a:xfrm>
            <a:off x="5638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Bernard MT Condensed"/>
            </a:endParaRPr>
          </a:p>
        </p:txBody>
      </p:sp>
      <p:sp>
        <p:nvSpPr>
          <p:cNvPr id="924" name="Номер слайда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875-44F2-4994-ADB9-928411E5E9DE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Bernard MT Condensed"/>
            </a:endParaRPr>
          </a:p>
        </p:txBody>
      </p:sp>
      <p:pic>
        <p:nvPicPr>
          <p:cNvPr id="925" name="Picture 12" descr="thumb_canyon-scape-h2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267080" y="0"/>
            <a:ext cx="4800600" cy="3200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6" name="Picture 23" descr="Рисунок3"/>
          <p:cNvPicPr/>
          <p:nvPr/>
        </p:nvPicPr>
        <p:blipFill>
          <a:blip r:embed="rId3"/>
          <a:stretch/>
        </p:blipFill>
        <p:spPr>
          <a:xfrm>
            <a:off x="1120680" y="346068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8" descr="thumb_canyon-plant1">
            <a:hlinkClick r:id="rId4"/>
          </p:cNvPr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0"/>
            <a:ext cx="4114800" cy="3200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8" name="Picture 10" descr="thumb_canyon-critter">
            <a:hlinkClick r:id="rId6"/>
          </p:cNvPr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0" y="3265560"/>
            <a:ext cx="4114800" cy="3516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9" name="Picture 17" descr="thumb_canyon-sky-sun1">
            <a:hlinkClick r:id="rId8"/>
          </p:cNvPr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4191120" y="3276720"/>
            <a:ext cx="4876560" cy="3504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930" name="Group 18"/>
          <p:cNvGrpSpPr/>
          <p:nvPr/>
        </p:nvGrpSpPr>
        <p:grpSpPr>
          <a:xfrm>
            <a:off x="5486400" y="6400800"/>
            <a:ext cx="3505320" cy="457200"/>
            <a:chOff x="5486400" y="6400800"/>
            <a:chExt cx="3505320" cy="457200"/>
          </a:xfrm>
        </p:grpSpPr>
        <p:sp>
          <p:nvSpPr>
            <p:cNvPr id="931" name="Rectangle 19"/>
            <p:cNvSpPr/>
            <p:nvPr/>
          </p:nvSpPr>
          <p:spPr>
            <a:xfrm>
              <a:off x="5486400" y="64008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  <p:sp>
          <p:nvSpPr>
            <p:cNvPr id="932" name="Rectangle 20"/>
            <p:cNvSpPr/>
            <p:nvPr/>
          </p:nvSpPr>
          <p:spPr>
            <a:xfrm>
              <a:off x="708660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1A25701-6E39-400B-AB7B-11B617943932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Bernard MT Condensed"/>
              </a:endParaRPr>
            </a:p>
          </p:txBody>
        </p:sp>
      </p:grpSp>
      <p:pic>
        <p:nvPicPr>
          <p:cNvPr id="933" name="Picture 28" descr="Рисунок3"/>
          <p:cNvPicPr/>
          <p:nvPr/>
        </p:nvPicPr>
        <p:blipFill>
          <a:blip r:embed="rId10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5" descr="200108040005_mcgee_la#6D705"/>
          <p:cNvPicPr/>
          <p:nvPr/>
        </p:nvPicPr>
        <p:blipFill>
          <a:blip r:embed="rId11"/>
          <a:stretch/>
        </p:blipFill>
        <p:spPr>
          <a:xfrm>
            <a:off x="4191120" y="0"/>
            <a:ext cx="4876560" cy="3200400"/>
          </a:xfrm>
          <a:prstGeom prst="rect">
            <a:avLst/>
          </a:prstGeom>
          <a:ln w="0">
            <a:noFill/>
          </a:ln>
        </p:spPr>
      </p:pic>
      <p:sp>
        <p:nvSpPr>
          <p:cNvPr id="935" name="WordArt 15"/>
          <p:cNvSpPr txBox="1"/>
          <p:nvPr/>
        </p:nvSpPr>
        <p:spPr>
          <a:xfrm>
            <a:off x="2133720" y="289548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имущества солнечного света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Admin</cp:lastModifiedBy>
  <cp:lastPrinted>2001-02-05T21:10:37Z</cp:lastPrinted>
  <dcterms:modified xsi:type="dcterms:W3CDTF">2015-04-28T15:03:00Z</dcterms:modified>
  <cp:revision>750</cp:revision>
  <dc:subject/>
  <dc:title>CELEBRATIONS</dc:title>
</cp:coreProperties>
</file>